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2C6-A351-47C9-BAE1-B69E498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D90-275D-46D3-B596-1973ECF2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5AD-C785-47D5-918E-2AF4279D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37B-E41D-4738-AF38-D769F5D7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9C4-4F7E-47DB-8A13-6E01BAC8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976-65BE-4CF2-A2BD-CB0CFE1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8540-9E4E-4627-8224-9967D7E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516-1A16-4286-9EA6-142509D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7CB-BD99-4400-9298-7BF2D442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064-9540-48F7-9499-84F6F2F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C6B3-F7BC-4D78-BCCF-09985FC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C6B-E0D7-451F-90AE-F43AE4B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4EF8-1908-4D5A-BAC6-C58172C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B538-9FBB-44C4-9328-82A77B8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33F2-22CE-41BC-971E-5508FA9A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EB69-7A25-449B-B3B7-3EC4FBFA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7A6-5F8F-4B43-A79A-071054B2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C44-59C3-4D4F-8732-22ADEB1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0D0-A867-42F6-A5FE-E4E13CD0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6AD-CC7B-4E17-B816-11AB0E5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3EF-1B61-464E-9A4A-758E032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FEA-C928-4F40-B1AF-0F5F944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466-17B5-4BC4-A3D2-3AE67D9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5DF-6304-4D06-B570-406881B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0157-131B-49BE-9EF6-8399BBDF3E3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5F5B-8ED8-4C74-9FB3-5C9D3CAD859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699920"/>
            <a:ext cx="7200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《中觀論疏‧觀因緣品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51280" y="3499920"/>
            <a:ext cx="4317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次第門第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重明八不之深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問：八不是無畏之中心，方等之要觀，文既重出，豈非繁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答：再周八不者極有深致，今略述六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500280"/>
            <a:ext cx="1224000" cy="316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429000"/>
            <a:ext cx="1224000" cy="316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3357720"/>
            <a:ext cx="1224000" cy="31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429000"/>
            <a:ext cx="1224000" cy="316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3357720"/>
            <a:ext cx="1224000" cy="31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3284640"/>
            <a:ext cx="1511280" cy="316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一約中偏相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52800" y="1844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2800" y="1844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95280" y="1484280"/>
            <a:ext cx="3887640" cy="216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中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生不滅乃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來不出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06560" y="357336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005360"/>
            <a:ext cx="4105440" cy="24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一切大小內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有所得心之所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皆是生滅斷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一異來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4508640"/>
            <a:ext cx="4032000" cy="208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中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二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1413000"/>
            <a:ext cx="4643280" cy="25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假名、因緣二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無此顛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橫謂生滅斷常故名為實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無此生滅斷常名為中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二中假相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假前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假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989000"/>
            <a:ext cx="1655640" cy="453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3716280"/>
            <a:ext cx="1224000" cy="28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292640"/>
            <a:ext cx="1081080" cy="22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916280"/>
            <a:ext cx="1655640" cy="46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716280"/>
            <a:ext cx="1224000" cy="28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400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3716280"/>
            <a:ext cx="1079640" cy="28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4365720"/>
            <a:ext cx="1042920" cy="21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三約經論相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初牒八不以經生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後牒八不以論申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16280"/>
            <a:ext cx="1438200" cy="472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1295640" cy="3789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3716280"/>
            <a:ext cx="1368360" cy="292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2276640"/>
            <a:ext cx="1584360" cy="432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645000"/>
            <a:ext cx="1368720" cy="29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四約意文相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2591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初牒八不明八不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後假八不釋八不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637000"/>
            <a:ext cx="1943280" cy="345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2637000"/>
            <a:ext cx="1728720" cy="33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133720"/>
            <a:ext cx="1944720" cy="40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5040" y="2424600"/>
            <a:ext cx="127764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︵福德利根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悟八不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20680" y="2511000"/>
            <a:ext cx="1216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︵薄福鈍根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迷八不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680" y="26265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迷此八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97100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論主出世破此等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2637000"/>
            <a:ext cx="1728720" cy="345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五約問釋相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1628640"/>
            <a:ext cx="1655640" cy="475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1700280"/>
            <a:ext cx="59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2565360"/>
            <a:ext cx="2016360" cy="3888000"/>
          </a:xfrm>
          <a:prstGeom prst="flowChartMulti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3440" y="3429000"/>
            <a:ext cx="11552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但問造論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39800" y="31212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無有解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2924280"/>
            <a:ext cx="2879640" cy="3095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4680" y="306000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重牒解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第六約標釋結中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1628640"/>
            <a:ext cx="1944720" cy="460872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9600" y="147816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初牒八不標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1844640"/>
            <a:ext cx="2160360" cy="460872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8360" y="2060280"/>
            <a:ext cx="2519640" cy="364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4320" y="1776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次問答釋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6320" y="168408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後重牒八不結中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0:40:53Z</dcterms:created>
  <dc:creator>Win7User</dc:creator>
  <dc:description/>
  <dc:language>en-US</dc:language>
  <cp:lastModifiedBy>Win7User</cp:lastModifiedBy>
  <dcterms:modified xsi:type="dcterms:W3CDTF">2012-07-23T03:49:52Z</dcterms:modified>
  <cp:revision>10</cp:revision>
  <dc:subject/>
  <dc:title>《中觀論疏‧觀因緣品》</dc:title>
</cp:coreProperties>
</file>