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10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9.jpeg" ContentType="image/jpeg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826-BD99-4555-9C0F-9E309355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994-4929-4E1F-BAB5-53F16AEC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6A1-70FB-439F-A0C2-5DB7E6CF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424B-4D42-4463-89ED-AEE7AF5B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D88C-CA42-4D41-B685-F5A0B42D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7F38-A9A4-4FBE-823B-9FB3EA52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9798-391D-4078-AAD9-82F00460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1B6A-FD35-4BD3-9A80-2E099199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5FF1-255E-42DB-A2D9-CEF3DCA5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AE56-5BDC-4597-AEBE-BA7F2D6A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B8A3-E5D0-4196-BE98-C291D6AA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38E-2946-4A71-8FF2-930B0C84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6C92-8C99-4863-8F2E-2295DE67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41BB-CCFF-48E5-BE33-A8C33812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1B1F-EB36-4F7C-B924-B7EA8644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8C2E-8125-4D1C-AE12-B415D0EB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0A7D-2BEA-4A27-9518-E3755A5F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27E5-98FF-4830-9701-E79AFCD5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F693-F137-48C7-8E50-D4E984AF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807-518A-45CB-81A9-BF374222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47F-6657-4368-8C01-46EF43F5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C42-89D5-4FE7-A114-4BCBB88B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25D-DC6C-4EB2-9ECE-7129D682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563-C5D2-4770-8660-DA9C2B1E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5592-3200-4BEA-AF25-A66C64A0E7DF}" type="datetime">
              <a:rPr b="0" lang="zh-TW" sz="1200" spc="-1" strike="noStrike">
                <a:solidFill>
                  <a:srgbClr val="000000"/>
                </a:solidFill>
                <a:latin typeface="Verdana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7F92-2743-4D2A-8DA3-1EF8DDA56DB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6B85-5D88-4C05-821C-174F74314B19}" type="datetime">
              <a:rPr b="0" lang="zh-TW" sz="1200" spc="-1" strike="noStrike">
                <a:solidFill>
                  <a:srgbClr val="000000"/>
                </a:solidFill>
                <a:latin typeface="Verdana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8DE0-B52C-4C53-96F9-D02A0A17CBE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Verdana"/>
              </a:rPr>
              <a:t>阿賴耶識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867280" y="1700280"/>
            <a:ext cx="2044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釋法緣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2997360"/>
            <a:ext cx="3672000" cy="2303280"/>
          </a:xfrm>
          <a:prstGeom prst="ellipse">
            <a:avLst/>
          </a:prstGeom>
          <a:solidFill>
            <a:srgbClr val="90b6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95640" y="2637000"/>
            <a:ext cx="3529080" cy="2592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0000"/>
                </a:solidFill>
                <a:latin typeface="Verdana"/>
              </a:rPr>
              <a:t>解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87880" y="357336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0000"/>
                </a:solidFill>
                <a:latin typeface="Verdana"/>
              </a:rPr>
              <a:t>架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7603-1144-4CD1-A135-D42A1D3B346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6B58454-22ED-479E-963E-63A71FAC47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作意心所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略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廣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611280" y="2637000"/>
            <a:ext cx="1152360" cy="302400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9960" y="240948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作意心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79640" y="2133720"/>
            <a:ext cx="914400" cy="1627200"/>
          </a:xfrm>
          <a:prstGeom prst="borderCallout1">
            <a:avLst>
              <a:gd name="adj1" fmla="val 18750"/>
              <a:gd name="adj2" fmla="val -8333"/>
              <a:gd name="adj3" fmla="val 82245"/>
              <a:gd name="adj4" fmla="val -633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79640" y="4365720"/>
            <a:ext cx="914400" cy="1368360"/>
          </a:xfrm>
          <a:prstGeom prst="borderCallout1">
            <a:avLst>
              <a:gd name="adj1" fmla="val 18750"/>
              <a:gd name="adj2" fmla="val -8333"/>
              <a:gd name="adj3" fmla="val -7425"/>
              <a:gd name="adj4" fmla="val -7135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4520" y="21452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體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11600" y="423288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作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16360" y="1916280"/>
            <a:ext cx="1008000" cy="1987560"/>
          </a:xfrm>
          <a:prstGeom prst="borderCallout1">
            <a:avLst>
              <a:gd name="adj1" fmla="val 18750"/>
              <a:gd name="adj2" fmla="val -8333"/>
              <a:gd name="adj3" fmla="val 13018"/>
              <a:gd name="adj4" fmla="val -1464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47240" y="178380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能警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80680" y="209160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為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00360" y="4076640"/>
            <a:ext cx="1203480" cy="2521080"/>
          </a:xfrm>
          <a:prstGeom prst="borderCallout1">
            <a:avLst>
              <a:gd name="adj1" fmla="val 18750"/>
              <a:gd name="adj2" fmla="val -8333"/>
              <a:gd name="adj3" fmla="val 19962"/>
              <a:gd name="adj4" fmla="val -2110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704320" y="392364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於所緣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07600" y="392364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引心為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11640" y="1844640"/>
            <a:ext cx="3884760" cy="1224000"/>
          </a:xfrm>
          <a:prstGeom prst="borderCallout1">
            <a:avLst>
              <a:gd name="adj1" fmla="val 18750"/>
              <a:gd name="adj2" fmla="val -8333"/>
              <a:gd name="adj3" fmla="val 29444"/>
              <a:gd name="adj4" fmla="val -1123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997880" y="18446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警覺應起心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17680" y="2276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引令趣境故名作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3640" y="765000"/>
            <a:ext cx="3816360" cy="1152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36960" y="836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雖此亦能引起心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36960" y="1268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心是主故但說引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3213000"/>
            <a:ext cx="4103640" cy="609840"/>
          </a:xfrm>
          <a:prstGeom prst="borderCallout1">
            <a:avLst>
              <a:gd name="adj1" fmla="val 18750"/>
              <a:gd name="adj2" fmla="val -8333"/>
              <a:gd name="adj3" fmla="val 54166"/>
              <a:gd name="adj4" fmla="val -1412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25880" y="31575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作意警心有二功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0" y="3789360"/>
            <a:ext cx="38876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53040" y="3716280"/>
            <a:ext cx="21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令心未起正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43280" y="4365720"/>
            <a:ext cx="403236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26120" y="4292640"/>
            <a:ext cx="21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令心起已趣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43280" y="2781360"/>
            <a:ext cx="289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49B-F254-4CCD-A290-8628565799D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07D60-D90D-4401-898F-F2E3C43BBC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受心所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略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廣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684360" y="3141720"/>
            <a:ext cx="1295280" cy="27352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75960" y="3240720"/>
            <a:ext cx="91152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受心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95640" y="2349360"/>
            <a:ext cx="914400" cy="1338480"/>
          </a:xfrm>
          <a:prstGeom prst="borderCallout1">
            <a:avLst>
              <a:gd name="adj1" fmla="val 18750"/>
              <a:gd name="adj2" fmla="val -8333"/>
              <a:gd name="adj3" fmla="val 94662"/>
              <a:gd name="adj4" fmla="val -4774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95640" y="4149720"/>
            <a:ext cx="914400" cy="1440000"/>
          </a:xfrm>
          <a:prstGeom prst="borderCallout1">
            <a:avLst>
              <a:gd name="adj1" fmla="val 18750"/>
              <a:gd name="adj2" fmla="val -8333"/>
              <a:gd name="adj3" fmla="val 53032"/>
              <a:gd name="adj4" fmla="val -7135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71960" y="221688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體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271960" y="408852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作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1773360"/>
            <a:ext cx="1511280" cy="2087280"/>
          </a:xfrm>
          <a:prstGeom prst="borderCallout1">
            <a:avLst>
              <a:gd name="adj1" fmla="val 18750"/>
              <a:gd name="adj2" fmla="val -8333"/>
              <a:gd name="adj3" fmla="val 33078"/>
              <a:gd name="adj4" fmla="val -2321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81040" y="1349280"/>
            <a:ext cx="7290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領納順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12680" y="15112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俱非境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144680" y="268560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為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48000" y="4005360"/>
            <a:ext cx="914400" cy="2016000"/>
          </a:xfrm>
          <a:prstGeom prst="borderCallout1">
            <a:avLst>
              <a:gd name="adj1" fmla="val 18750"/>
              <a:gd name="adj2" fmla="val -8333"/>
              <a:gd name="adj3" fmla="val 34800"/>
              <a:gd name="adj4" fmla="val -3663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23960" y="36720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取愛為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19640" y="404640"/>
            <a:ext cx="3600360" cy="1081440"/>
          </a:xfrm>
          <a:prstGeom prst="borderCallout1">
            <a:avLst>
              <a:gd name="adj1" fmla="val 18750"/>
              <a:gd name="adj2" fmla="val -8333"/>
              <a:gd name="adj3" fmla="val 387226"/>
              <a:gd name="adj4" fmla="val -1000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19640" y="404640"/>
            <a:ext cx="30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於樂受未得希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60320" y="836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已得復有不乖離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95640" y="3500280"/>
            <a:ext cx="1152720" cy="2016360"/>
          </a:xfrm>
          <a:custGeom>
            <a:avLst/>
            <a:gdLst>
              <a:gd name="textAreaLeft" fmla="*/ 0 w 1152720"/>
              <a:gd name="textAreaRight" fmla="*/ 808560 w 1152720"/>
              <a:gd name="textAreaTop" fmla="*/ 83880 h 2016360"/>
              <a:gd name="textAreaBottom" fmla="*/ 19324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56000" y="4221000"/>
            <a:ext cx="1368360" cy="208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31960" y="3797280"/>
            <a:ext cx="7290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能取合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63600" y="3780360"/>
            <a:ext cx="729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非二欲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64000" y="1773360"/>
            <a:ext cx="3451320" cy="1008000"/>
          </a:xfrm>
          <a:prstGeom prst="borderCallout1">
            <a:avLst>
              <a:gd name="adj1" fmla="val 18750"/>
              <a:gd name="adj2" fmla="val -8333"/>
              <a:gd name="adj3" fmla="val 240000"/>
              <a:gd name="adj4" fmla="val -2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15960" y="1773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於苦未得有不合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60320" y="21337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已得之中有乖離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63640" y="6021360"/>
            <a:ext cx="1508040" cy="609480"/>
          </a:xfrm>
          <a:prstGeom prst="borderCallout1">
            <a:avLst>
              <a:gd name="adj1" fmla="val 18750"/>
              <a:gd name="adj2" fmla="val -8333"/>
              <a:gd name="adj3" fmla="val -33333"/>
              <a:gd name="adj4" fmla="val 12526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05480" y="609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依染分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3141720"/>
            <a:ext cx="2660760" cy="1079280"/>
          </a:xfrm>
          <a:prstGeom prst="borderCallout1">
            <a:avLst>
              <a:gd name="adj1" fmla="val 18750"/>
              <a:gd name="adj2" fmla="val -8333"/>
              <a:gd name="adj3" fmla="val 111027"/>
              <a:gd name="adj4" fmla="val -7440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38880" y="3141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第八俱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73960" y="3573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疏起六識中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84720" y="4365720"/>
            <a:ext cx="2808360" cy="1871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16880" y="4365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依十二緣起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"/>
          <p:cNvCxnSpPr/>
          <p:nvPr/>
        </p:nvCxnSpPr>
        <p:spPr>
          <a:xfrm flipH="1" flipV="1" rot="5400000">
            <a:off x="4724280" y="4570560"/>
            <a:ext cx="408600" cy="2299320"/>
          </a:xfrm>
          <a:prstGeom prst="bentConnector4">
            <a:avLst>
              <a:gd name="adj1" fmla="val -145502"/>
              <a:gd name="adj2" fmla="val 9149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5940360" y="4797360"/>
            <a:ext cx="26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依無明觸所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37880" y="5229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受緣愛故是有漏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4760" y="5661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受能為愛之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C0E-9E7A-4246-B30A-E4D08000571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57B59-2987-43EE-869E-DB225915B9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想心所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略釋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廣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"/>
          <p:cNvSpPr/>
          <p:nvPr/>
        </p:nvSpPr>
        <p:spPr>
          <a:xfrm>
            <a:off x="539640" y="2781360"/>
            <a:ext cx="1224000" cy="31687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8680" y="3167640"/>
            <a:ext cx="91152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想心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08000" y="1989000"/>
            <a:ext cx="914400" cy="1627200"/>
          </a:xfrm>
          <a:prstGeom prst="borderCallout1">
            <a:avLst>
              <a:gd name="adj1" fmla="val 18750"/>
              <a:gd name="adj2" fmla="val -8333"/>
              <a:gd name="adj3" fmla="val 73462"/>
              <a:gd name="adj4" fmla="val -47569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911240" y="4035600"/>
            <a:ext cx="914400" cy="1769760"/>
          </a:xfrm>
          <a:prstGeom prst="borderCallout1">
            <a:avLst>
              <a:gd name="adj1" fmla="val 18750"/>
              <a:gd name="adj2" fmla="val -8333"/>
              <a:gd name="adj3" fmla="val 34888"/>
              <a:gd name="adj4" fmla="val -39759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982880" y="207252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體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82880" y="408852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作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987640" y="1628640"/>
            <a:ext cx="1008000" cy="2160720"/>
          </a:xfrm>
          <a:prstGeom prst="borderCallout1">
            <a:avLst>
              <a:gd name="adj1" fmla="val 18750"/>
              <a:gd name="adj2" fmla="val -8333"/>
              <a:gd name="adj3" fmla="val 28583"/>
              <a:gd name="adj4" fmla="val -4330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20320" y="11883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於境取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51960" y="194868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為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87640" y="4005360"/>
            <a:ext cx="1008000" cy="2519280"/>
          </a:xfrm>
          <a:prstGeom prst="borderCallout1">
            <a:avLst>
              <a:gd name="adj1" fmla="val 18750"/>
              <a:gd name="adj2" fmla="val -8333"/>
              <a:gd name="adj3" fmla="val 13106"/>
              <a:gd name="adj4" fmla="val -2897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20320" y="378072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施設種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53400" y="402228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名言為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56000" y="4221000"/>
            <a:ext cx="3024360" cy="609840"/>
          </a:xfrm>
          <a:prstGeom prst="borderCallout1">
            <a:avLst>
              <a:gd name="adj1" fmla="val 18750"/>
              <a:gd name="adj2" fmla="val -8333"/>
              <a:gd name="adj3" fmla="val 113023"/>
              <a:gd name="adj4" fmla="val -1443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27640" y="4797360"/>
            <a:ext cx="316872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建立發起亦名施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48320" y="1585800"/>
            <a:ext cx="3740040" cy="609840"/>
          </a:xfrm>
          <a:prstGeom prst="borderCallout1">
            <a:avLst>
              <a:gd name="adj1" fmla="val 18750"/>
              <a:gd name="adj2" fmla="val -8333"/>
              <a:gd name="adj3" fmla="val 101564"/>
              <a:gd name="adj4" fmla="val -2321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194440" y="1557360"/>
            <a:ext cx="24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要安立境分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齊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851280" y="1989000"/>
            <a:ext cx="93672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2205000"/>
            <a:ext cx="367200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方能隨起種種名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3068640"/>
            <a:ext cx="1081080" cy="2879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657920" y="287964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由取此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105400" y="264240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便起種種名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620640"/>
            <a:ext cx="288108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40880" y="620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取共相名安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93080" y="1047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自相不起言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7236000" y="4005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164360" y="2708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59280" y="2852640"/>
            <a:ext cx="2160720" cy="93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83080" y="28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由想境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27440" y="320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方立名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26600" y="4221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施設為安立異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284720" y="5589720"/>
            <a:ext cx="3456000" cy="934920"/>
          </a:xfrm>
          <a:prstGeom prst="borderCallout1">
            <a:avLst>
              <a:gd name="adj1" fmla="val 18750"/>
              <a:gd name="adj2" fmla="val -8333"/>
              <a:gd name="adj3" fmla="val -53990"/>
              <a:gd name="adj4" fmla="val -1667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38600" y="5516640"/>
            <a:ext cx="24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不名為語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不起說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782960" y="5950080"/>
            <a:ext cx="24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尋伺用親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正起語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E64-451C-47FE-8CA8-E5A01820EF9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30F42-3AE6-4C4B-95F4-13CF8B1407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思心所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略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廣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"/>
          <p:cNvSpPr/>
          <p:nvPr/>
        </p:nvSpPr>
        <p:spPr>
          <a:xfrm>
            <a:off x="324000" y="2781360"/>
            <a:ext cx="1223640" cy="27352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72680" y="2809080"/>
            <a:ext cx="91152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思心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68320" y="1874880"/>
            <a:ext cx="914400" cy="1625400"/>
          </a:xfrm>
          <a:prstGeom prst="borderCallout1">
            <a:avLst>
              <a:gd name="adj1" fmla="val 18750"/>
              <a:gd name="adj2" fmla="val -8333"/>
              <a:gd name="adj3" fmla="val 86717"/>
              <a:gd name="adj4" fmla="val -5573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63640" y="3789360"/>
            <a:ext cx="914400" cy="1625760"/>
          </a:xfrm>
          <a:prstGeom prst="borderCallout1">
            <a:avLst>
              <a:gd name="adj1" fmla="val 18750"/>
              <a:gd name="adj2" fmla="val -8333"/>
              <a:gd name="adj3" fmla="val 45703"/>
              <a:gd name="adj4" fmla="val -79689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29160" y="188352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體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8520" y="372960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作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1773360"/>
            <a:ext cx="914400" cy="2087280"/>
          </a:xfrm>
          <a:prstGeom prst="borderCallout1">
            <a:avLst>
              <a:gd name="adj1" fmla="val 18750"/>
              <a:gd name="adj2" fmla="val -8333"/>
              <a:gd name="adj3" fmla="val 19314"/>
              <a:gd name="adj4" fmla="val -5555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43280" y="4292640"/>
            <a:ext cx="1081080" cy="2232000"/>
          </a:xfrm>
          <a:prstGeom prst="borderCallout1">
            <a:avLst>
              <a:gd name="adj1" fmla="val 18750"/>
              <a:gd name="adj2" fmla="val -8333"/>
              <a:gd name="adj3" fmla="val 18064"/>
              <a:gd name="adj4" fmla="val -4699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62880" y="133128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令心造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775600" y="392364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於善品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07600" y="399672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役心為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51280" y="1916280"/>
            <a:ext cx="1512720" cy="453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928320" y="125244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謂能取境正因等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504320" y="1016280"/>
            <a:ext cx="78984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驅役自心令造善等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508720" y="260280"/>
            <a:ext cx="2950920" cy="6018120"/>
          </a:xfrm>
          <a:prstGeom prst="borderCallout1">
            <a:avLst>
              <a:gd name="adj1" fmla="val 18750"/>
              <a:gd name="adj2" fmla="val -8333"/>
              <a:gd name="adj3" fmla="val 36587"/>
              <a:gd name="adj4" fmla="val -2210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8280" y="-4428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邪正等行即身語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15600" y="-433080"/>
            <a:ext cx="78984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此行之因即善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惡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520680" y="-660240"/>
            <a:ext cx="78984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由了此境相故思作諸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15760" y="262800"/>
            <a:ext cx="78984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起善惡等事     故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671600" y="204840"/>
            <a:ext cx="78984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取境正因等相是思之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219640" y="4941720"/>
            <a:ext cx="865080" cy="1656000"/>
          </a:xfrm>
          <a:prstGeom prst="borderCallout1">
            <a:avLst>
              <a:gd name="adj1" fmla="val 18750"/>
              <a:gd name="adj2" fmla="val -8333"/>
              <a:gd name="adj3" fmla="val -144583"/>
              <a:gd name="adj4" fmla="val -19669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151960" y="464400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亦令心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512320" y="507996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造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84720" y="5013360"/>
            <a:ext cx="648000" cy="16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601240" y="4941720"/>
            <a:ext cx="115524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以心勝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732720" y="5373720"/>
            <a:ext cx="720720" cy="12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736320" y="515016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但說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CA4-E99B-4CEE-84DD-4545405F9C1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83856-A9B4-4974-80B2-B6CA12F824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賴耶識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與</a:t>
            </a: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五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遍行俱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2637000"/>
            <a:ext cx="1942920" cy="331308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44320" y="248112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阿賴耶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191960" y="2972160"/>
            <a:ext cx="911520" cy="32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異熟識</a:t>
            </a: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268360" y="1484280"/>
            <a:ext cx="1151280" cy="1295280"/>
          </a:xfrm>
          <a:prstGeom prst="pentagon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916360" y="2205000"/>
            <a:ext cx="1150920" cy="1295280"/>
          </a:xfrm>
          <a:prstGeom prst="pentagon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843280" y="3213000"/>
            <a:ext cx="1150920" cy="1295640"/>
          </a:xfrm>
          <a:prstGeom prst="pentagon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43280" y="4292640"/>
            <a:ext cx="1150920" cy="1295280"/>
          </a:xfrm>
          <a:prstGeom prst="pentagon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56000" y="5373720"/>
            <a:ext cx="1150920" cy="1295280"/>
          </a:xfrm>
          <a:prstGeom prst="pentagon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87960" y="1742040"/>
            <a:ext cx="8506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135960" y="216432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作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62520" y="3470760"/>
            <a:ext cx="8506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91240" y="4550400"/>
            <a:ext cx="8506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75240" y="5702760"/>
            <a:ext cx="8506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24000" y="5013360"/>
            <a:ext cx="863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124000" y="465300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2050920" y="4076280"/>
            <a:ext cx="1224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124000" y="2923920"/>
            <a:ext cx="1295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835280" y="2349000"/>
            <a:ext cx="93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140360" y="1844640"/>
            <a:ext cx="1512720" cy="403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88680" y="1415880"/>
            <a:ext cx="78984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此五是遍行所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791960" y="1560240"/>
            <a:ext cx="78984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與藏識決定相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51640" y="333360"/>
            <a:ext cx="1944720" cy="2232000"/>
          </a:xfrm>
          <a:prstGeom prst="borderCallout1">
            <a:avLst>
              <a:gd name="adj1" fmla="val 18750"/>
              <a:gd name="adj2" fmla="val -8333"/>
              <a:gd name="adj3" fmla="val 79375"/>
              <a:gd name="adj4" fmla="val -150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51640" y="2781360"/>
            <a:ext cx="2732040" cy="3498840"/>
          </a:xfrm>
          <a:prstGeom prst="borderCallout1">
            <a:avLst>
              <a:gd name="adj1" fmla="val 18750"/>
              <a:gd name="adj2" fmla="val -8333"/>
              <a:gd name="adj3" fmla="val 4490"/>
              <a:gd name="adj4" fmla="val -970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29040" y="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釋與五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32320" y="2160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心起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737040" y="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隨一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729040" y="26640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觸等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232320" y="241488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異熟識行相雖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37040" y="2644560"/>
            <a:ext cx="72900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而時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依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240320" y="3004920"/>
            <a:ext cx="72900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所緣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事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671960" y="403236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故名相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924360" y="522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/>
          <p:nvPr/>
        </p:nvCxnSpPr>
        <p:spPr>
          <a:xfrm>
            <a:off x="3348000" y="2133720"/>
            <a:ext cx="288000" cy="3961080"/>
          </a:xfrm>
          <a:prstGeom prst="bentConnector3">
            <a:avLst>
              <a:gd name="adj1" fmla="val 2806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2" name=""/>
          <p:cNvSpPr/>
          <p:nvPr/>
        </p:nvSpPr>
        <p:spPr>
          <a:xfrm>
            <a:off x="3851280" y="3933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24360" y="306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5B1-EEFA-422E-AAF2-97C9C2111EF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8F87C-E083-491A-BCA6-8AEB4233B6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釋相應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684360" y="3068640"/>
            <a:ext cx="1008000" cy="259236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59960" y="335160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相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050920" y="1700280"/>
            <a:ext cx="1081080" cy="1008000"/>
          </a:xfrm>
          <a:prstGeom prst="hexagon">
            <a:avLst>
              <a:gd name="adj" fmla="val 26813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95640" y="2565360"/>
            <a:ext cx="1081080" cy="1008000"/>
          </a:xfrm>
          <a:prstGeom prst="hexagon">
            <a:avLst>
              <a:gd name="adj" fmla="val 26813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195640" y="3645000"/>
            <a:ext cx="1081080" cy="1008000"/>
          </a:xfrm>
          <a:prstGeom prst="hexagon">
            <a:avLst>
              <a:gd name="adj" fmla="val 26813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195640" y="4653000"/>
            <a:ext cx="1081080" cy="1008000"/>
          </a:xfrm>
          <a:prstGeom prst="hexagon">
            <a:avLst>
              <a:gd name="adj" fmla="val 26813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35120" y="215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198880" y="1742040"/>
            <a:ext cx="8506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415240" y="345996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所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1476360" y="2421000"/>
            <a:ext cx="863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619280" y="342900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547640" y="44370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476360" y="5084640"/>
            <a:ext cx="934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76720" y="333360"/>
            <a:ext cx="3600360" cy="719280"/>
          </a:xfrm>
          <a:prstGeom prst="borderCallout1">
            <a:avLst>
              <a:gd name="adj1" fmla="val 18750"/>
              <a:gd name="adj2" fmla="val -8333"/>
              <a:gd name="adj3" fmla="val 241282"/>
              <a:gd name="adj4" fmla="val -185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83040" y="260280"/>
            <a:ext cx="15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剎那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定同一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64000" y="1125360"/>
            <a:ext cx="3668760" cy="681120"/>
          </a:xfrm>
          <a:prstGeom prst="borderCallout1">
            <a:avLst>
              <a:gd name="adj1" fmla="val 18750"/>
              <a:gd name="adj2" fmla="val -8333"/>
              <a:gd name="adj3" fmla="val 312819"/>
              <a:gd name="adj4" fmla="val -1778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001400" y="112536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依根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俱有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間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88000" y="260280"/>
            <a:ext cx="2232000" cy="93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047720" y="189000"/>
            <a:ext cx="13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時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依定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152840" y="620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名為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564000" y="4653000"/>
            <a:ext cx="914400" cy="1503360"/>
          </a:xfrm>
          <a:prstGeom prst="borderCallout1">
            <a:avLst>
              <a:gd name="adj1" fmla="val 18750"/>
              <a:gd name="adj2" fmla="val -8333"/>
              <a:gd name="adj3" fmla="val 38226"/>
              <a:gd name="adj4" fmla="val -9027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492360" y="2276640"/>
            <a:ext cx="914400" cy="1936440"/>
          </a:xfrm>
          <a:prstGeom prst="borderCallout1">
            <a:avLst>
              <a:gd name="adj1" fmla="val -15150"/>
              <a:gd name="adj2" fmla="val 22450"/>
              <a:gd name="adj3" fmla="val 18900"/>
              <a:gd name="adj4" fmla="val 2245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568320" y="20160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影像相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639960" y="477468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自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284720" y="2421000"/>
            <a:ext cx="863640" cy="367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500720" y="234936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56360" y="692280"/>
            <a:ext cx="720720" cy="57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708360" y="4149720"/>
            <a:ext cx="647640" cy="863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9240" y="419976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360680" y="190980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事處相似名為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076720" y="1916280"/>
            <a:ext cx="3024360" cy="4681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11280" y="2442600"/>
            <a:ext cx="7290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等者相似義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體各唯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671800" y="18972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境相相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90920" y="1474200"/>
            <a:ext cx="729000" cy="54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故所緣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事皆名為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37040" y="1084680"/>
            <a:ext cx="72900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以觸等五相託本識相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256160" y="1422360"/>
            <a:ext cx="7290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所緣相似故名為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885080" y="1268280"/>
            <a:ext cx="1079640" cy="496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876080" y="67392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不約本質名為所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274600" y="84384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亦非影像名為行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56720" y="4724280"/>
            <a:ext cx="1008000" cy="14414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961040" y="463032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唯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866360" y="5013360"/>
            <a:ext cx="1277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為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4000" y="1844640"/>
            <a:ext cx="934920" cy="1079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9240" y="165960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行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4000" y="5805360"/>
            <a:ext cx="3095640" cy="79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042920" y="2349360"/>
            <a:ext cx="289080" cy="935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3132000" y="335772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"/>
          <p:cNvCxnSpPr>
            <a:stCxn id="529" idx="1"/>
            <a:endCxn id="530" idx="1"/>
          </p:cNvCxnSpPr>
          <p:nvPr/>
        </p:nvCxnSpPr>
        <p:spPr>
          <a:xfrm flipV="1" rot="10800000">
            <a:off x="323280" y="2398320"/>
            <a:ext cx="72000" cy="3804480"/>
          </a:xfrm>
          <a:prstGeom prst="bentConnector3">
            <a:avLst>
              <a:gd name="adj1" fmla="val 41959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179280" y="5805360"/>
            <a:ext cx="31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相應除行相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或兼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908000" y="6093000"/>
            <a:ext cx="1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11280" y="6237360"/>
            <a:ext cx="2160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行相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F60-1094-439D-997D-02A95D00E70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30260-59FF-493D-8E27-3ADA2D9841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4752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賴耶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受相應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捨受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68360" y="2492280"/>
            <a:ext cx="1008000" cy="331308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44320" y="240948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阿賴耶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332000" y="3068640"/>
            <a:ext cx="1224000" cy="2736720"/>
          </a:xfrm>
          <a:prstGeom prst="leftArrowCallout">
            <a:avLst>
              <a:gd name="adj1" fmla="val 55902"/>
              <a:gd name="adj2" fmla="val 55897"/>
              <a:gd name="adj3" fmla="val 16667"/>
              <a:gd name="adj4" fmla="val 7548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22520" y="295020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捨受相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195640" y="1773360"/>
            <a:ext cx="3313080" cy="609480"/>
          </a:xfrm>
          <a:prstGeom prst="borderCallout1">
            <a:avLst>
              <a:gd name="adj1" fmla="val 18750"/>
              <a:gd name="adj2" fmla="val -8333"/>
              <a:gd name="adj3" fmla="val 267708"/>
              <a:gd name="adj4" fmla="val -273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691000" y="1700280"/>
            <a:ext cx="24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行相極不明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00360" y="2349360"/>
            <a:ext cx="2735280" cy="1079640"/>
          </a:xfrm>
          <a:prstGeom prst="borderCallout1">
            <a:avLst>
              <a:gd name="adj1" fmla="val 18750"/>
              <a:gd name="adj2" fmla="val -8333"/>
              <a:gd name="adj3" fmla="val 83972"/>
              <a:gd name="adj4" fmla="val -1590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135240" y="2205000"/>
            <a:ext cx="181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不能分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23080" y="2637000"/>
            <a:ext cx="18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違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順境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843280" y="3284640"/>
            <a:ext cx="2665440" cy="649080"/>
          </a:xfrm>
          <a:prstGeom prst="borderCallout1">
            <a:avLst>
              <a:gd name="adj1" fmla="val 18750"/>
              <a:gd name="adj2" fmla="val -8333"/>
              <a:gd name="adj3" fmla="val 195111"/>
              <a:gd name="adj4" fmla="val -2174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364200" y="3195720"/>
            <a:ext cx="12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微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916360" y="3860640"/>
            <a:ext cx="2735280" cy="60984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-1595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322800" y="3814920"/>
            <a:ext cx="10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一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987640" y="4508640"/>
            <a:ext cx="2948040" cy="720720"/>
          </a:xfrm>
          <a:prstGeom prst="borderCallout1">
            <a:avLst>
              <a:gd name="adj1" fmla="val 18750"/>
              <a:gd name="adj2" fmla="val -8333"/>
              <a:gd name="adj3" fmla="val 135680"/>
              <a:gd name="adj4" fmla="val -24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567240" y="4419720"/>
            <a:ext cx="181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相續而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76720" y="189000"/>
            <a:ext cx="3888000" cy="1503360"/>
          </a:xfrm>
          <a:prstGeom prst="borderCallout1">
            <a:avLst>
              <a:gd name="adj1" fmla="val 18750"/>
              <a:gd name="adj2" fmla="val -8333"/>
              <a:gd name="adj3" fmla="val 124500"/>
              <a:gd name="adj4" fmla="val -195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728680" y="189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極不明了是捨受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566680" y="601560"/>
            <a:ext cx="22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若苦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樂相必明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85040" y="1052640"/>
            <a:ext cx="27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依三受門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憂喜入苦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012000" y="1844640"/>
            <a:ext cx="2587320" cy="1041480"/>
          </a:xfrm>
          <a:prstGeom prst="borderCallout1">
            <a:avLst>
              <a:gd name="adj1" fmla="val 18750"/>
              <a:gd name="adj2" fmla="val -8333"/>
              <a:gd name="adj3" fmla="val 113416"/>
              <a:gd name="adj4" fmla="val -2681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554520" y="177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取中容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11600" y="21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是捨受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651640" y="2637000"/>
            <a:ext cx="331308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006240" y="2708280"/>
            <a:ext cx="25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若是餘受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取順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違境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148360" y="3357720"/>
            <a:ext cx="381636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719680" y="3284640"/>
            <a:ext cx="24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若是餘受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行相必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16360" y="3645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643280" y="3860640"/>
            <a:ext cx="4105440" cy="64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932360" y="3789360"/>
            <a:ext cx="32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若餘受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必是易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56360" y="4365720"/>
            <a:ext cx="2663640" cy="79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789960" y="4292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此行相恆如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035480" y="4648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故成一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764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419640" y="5084640"/>
            <a:ext cx="2665080" cy="6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08880" y="5013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若餘必有間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708360" y="5589720"/>
            <a:ext cx="345600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87240" y="55897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此恆相續故唯捨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767F-3881-418C-9331-7444F9FAE88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A99D3-3348-41FF-93AD-38770C2A47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賴耶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受相應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捨受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468360" y="2997360"/>
            <a:ext cx="1368360" cy="316836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15600" y="298584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阿賴耶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24000" y="1773360"/>
            <a:ext cx="1727280" cy="2447640"/>
          </a:xfrm>
          <a:prstGeom prst="borderCallout1">
            <a:avLst>
              <a:gd name="adj1" fmla="val 18750"/>
              <a:gd name="adj2" fmla="val -8333"/>
              <a:gd name="adj3" fmla="val 90013"/>
              <a:gd name="adj4" fmla="val -3354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24000" y="4292640"/>
            <a:ext cx="1220760" cy="2160720"/>
          </a:xfrm>
          <a:prstGeom prst="borderCallout1">
            <a:avLst>
              <a:gd name="adj1" fmla="val 18750"/>
              <a:gd name="adj2" fmla="val -8333"/>
              <a:gd name="adj3" fmla="val 44305"/>
              <a:gd name="adj4" fmla="val -4629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590120" y="1700280"/>
            <a:ext cx="139932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唯是異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704320" y="116784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隨先引業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07600" y="14043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不待現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427640" y="1700280"/>
            <a:ext cx="4248000" cy="1152360"/>
          </a:xfrm>
          <a:prstGeom prst="borderCallout1">
            <a:avLst>
              <a:gd name="adj1" fmla="val 18750"/>
              <a:gd name="adj2" fmla="val -8333"/>
              <a:gd name="adj3" fmla="val 103717"/>
              <a:gd name="adj4" fmla="val -2720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109120" y="1700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顯是異熟總業所招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991760" y="21495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故唯捨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508720" y="692280"/>
            <a:ext cx="302400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693040" y="62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現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85720" y="1052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任善惡勢力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732720" y="189000"/>
            <a:ext cx="2160360" cy="86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059600" y="1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苦樂二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193880" y="549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待現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199600" y="38523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常無轉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768760" y="446256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916360" y="4292640"/>
            <a:ext cx="1726920" cy="23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91960" y="387648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常者相續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485880" y="407736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轉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784320" y="5574240"/>
            <a:ext cx="72900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一類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00720" y="3789360"/>
            <a:ext cx="1130040" cy="2637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1320" y="3875760"/>
            <a:ext cx="72900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我是一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常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867280" y="3284640"/>
            <a:ext cx="1225800" cy="3354120"/>
          </a:xfrm>
          <a:prstGeom prst="borderCallout1">
            <a:avLst>
              <a:gd name="adj1" fmla="val 18750"/>
              <a:gd name="adj2" fmla="val -8333"/>
              <a:gd name="adj3" fmla="val 31328"/>
              <a:gd name="adj4" fmla="val -4144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71960" y="270216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似我顯第七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376680" y="309564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恆緣執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75C-7682-429D-9C8C-0A48C3AB828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1B339-F098-47D8-B10E-C8D5C48F7B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7453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Verdana"/>
              </a:rPr>
              <a:t>賴耶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不與別境心所相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539640" y="2637000"/>
            <a:ext cx="1008000" cy="288108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4320" y="240948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阿賴耶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187280" y="1844640"/>
            <a:ext cx="2448000" cy="1368360"/>
          </a:xfrm>
          <a:prstGeom prst="wedgeRectCallout">
            <a:avLst>
              <a:gd name="adj1" fmla="val -43773"/>
              <a:gd name="adj2" fmla="val 7215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99200" y="184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如何此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17560" y="2276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與餘心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79400" y="2708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相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124000" y="3645000"/>
            <a:ext cx="914400" cy="2057400"/>
          </a:xfrm>
          <a:prstGeom prst="borderCallout1">
            <a:avLst>
              <a:gd name="adj1" fmla="val 18750"/>
              <a:gd name="adj2" fmla="val -8333"/>
              <a:gd name="adj3" fmla="val -30171"/>
              <a:gd name="adj4" fmla="val -4965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127960" y="334728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互相違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1557360"/>
            <a:ext cx="3884400" cy="609480"/>
          </a:xfrm>
          <a:prstGeom prst="borderCallout1">
            <a:avLst>
              <a:gd name="adj1" fmla="val 18750"/>
              <a:gd name="adj2" fmla="val -8333"/>
              <a:gd name="adj3" fmla="val 384898"/>
              <a:gd name="adj4" fmla="val -3531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781880" y="1484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欲希望所樂事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40360" y="2133720"/>
            <a:ext cx="431928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036400" y="2060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識任運業無所希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708360" y="2708280"/>
            <a:ext cx="4748400" cy="609480"/>
          </a:xfrm>
          <a:prstGeom prst="borderCallout1">
            <a:avLst>
              <a:gd name="adj1" fmla="val 18750"/>
              <a:gd name="adj2" fmla="val -8333"/>
              <a:gd name="adj3" fmla="val 219532"/>
              <a:gd name="adj4" fmla="val -1828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657320" y="2637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勝解印持決定事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67280" y="3213000"/>
            <a:ext cx="439236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017680" y="3213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識瞢昧無所印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419640" y="3789360"/>
            <a:ext cx="4819320" cy="609480"/>
          </a:xfrm>
          <a:prstGeom prst="borderCallout1">
            <a:avLst>
              <a:gd name="adj1" fmla="val 18750"/>
              <a:gd name="adj2" fmla="val -8333"/>
              <a:gd name="adj3" fmla="val 89583"/>
              <a:gd name="adj4" fmla="val -906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081320" y="378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念唯明記曾習事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564000" y="4365720"/>
            <a:ext cx="410364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12960" y="4292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識昧劣不能明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419640" y="5013360"/>
            <a:ext cx="4895640" cy="609480"/>
          </a:xfrm>
          <a:prstGeom prst="borderCallout1">
            <a:avLst>
              <a:gd name="adj1" fmla="val 18750"/>
              <a:gd name="adj2" fmla="val -8333"/>
              <a:gd name="adj3" fmla="val 58856"/>
              <a:gd name="adj4" fmla="val -1031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21280" y="4869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定能令心專注一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95640" y="5445000"/>
            <a:ext cx="410544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017680" y="5373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識任運剎那別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68360" y="6021360"/>
            <a:ext cx="7626240" cy="609480"/>
          </a:xfrm>
          <a:prstGeom prst="borderCallout1">
            <a:avLst>
              <a:gd name="adj1" fmla="val 18750"/>
              <a:gd name="adj2" fmla="val -8333"/>
              <a:gd name="adj3" fmla="val -75782"/>
              <a:gd name="adj4" fmla="val 2448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48400" y="6021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慧唯簡擇得失等事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716360" y="6021360"/>
            <a:ext cx="338472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23960" y="6021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此識微昧不能簡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85080" y="1557360"/>
            <a:ext cx="863640" cy="647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172360" y="2708280"/>
            <a:ext cx="720720" cy="10810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524720" y="3933720"/>
            <a:ext cx="1008000" cy="863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885080" y="4941720"/>
            <a:ext cx="863640" cy="7923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68360" y="5661000"/>
            <a:ext cx="720720" cy="5763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566840" y="2708280"/>
            <a:ext cx="13993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勝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5F6-E4AE-4454-8415-E30D4156596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FD2F0-BF85-4DCD-AB60-887009A193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賴耶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不與善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煩惱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不定心所相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"/>
          <p:cNvSpPr/>
          <p:nvPr/>
        </p:nvSpPr>
        <p:spPr>
          <a:xfrm>
            <a:off x="539640" y="3068640"/>
            <a:ext cx="936720" cy="273672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44320" y="269856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阿賴耶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692360" y="1773360"/>
            <a:ext cx="1511280" cy="2232000"/>
          </a:xfrm>
          <a:prstGeom prst="borderCallout1">
            <a:avLst>
              <a:gd name="adj1" fmla="val 18750"/>
              <a:gd name="adj2" fmla="val -8333"/>
              <a:gd name="adj3" fmla="val 76032"/>
              <a:gd name="adj4" fmla="val -2888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692360" y="4076640"/>
            <a:ext cx="1439640" cy="1873440"/>
          </a:xfrm>
          <a:prstGeom prst="borderCallout1">
            <a:avLst>
              <a:gd name="adj1" fmla="val 18750"/>
              <a:gd name="adj2" fmla="val -8333"/>
              <a:gd name="adj3" fmla="val 67541"/>
              <a:gd name="adj4" fmla="val -3031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767600" y="147564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唯是異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343960" y="14043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無記性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696320" y="4502160"/>
            <a:ext cx="7898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一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272320" y="394416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常相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419640" y="1916280"/>
            <a:ext cx="4892400" cy="1152360"/>
          </a:xfrm>
          <a:prstGeom prst="borderCallout1">
            <a:avLst>
              <a:gd name="adj1" fmla="val 18750"/>
              <a:gd name="adj2" fmla="val -8333"/>
              <a:gd name="adj3" fmla="val 34986"/>
              <a:gd name="adj4" fmla="val -1038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442040" y="1844640"/>
            <a:ext cx="30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善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染污心所亦不相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635280" y="3429000"/>
            <a:ext cx="3456000" cy="1152360"/>
          </a:xfrm>
          <a:prstGeom prst="borderCallout1">
            <a:avLst>
              <a:gd name="adj1" fmla="val 18750"/>
              <a:gd name="adj2" fmla="val -8333"/>
              <a:gd name="adj3" fmla="val 122314"/>
              <a:gd name="adj4" fmla="val -1887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277160" y="3429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定心無記性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599000" y="2276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定通三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291560" y="39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有間斷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4005360"/>
            <a:ext cx="5184720" cy="2232000"/>
          </a:xfrm>
          <a:custGeom>
            <a:avLst/>
            <a:gdLst>
              <a:gd name="textAreaLeft" fmla="*/ 1728360 w 5184720"/>
              <a:gd name="textAreaRight" fmla="*/ 4440600 w 5184720"/>
              <a:gd name="textAreaTop" fmla="*/ 1285560 h 2232000"/>
              <a:gd name="textAreaBottom" fmla="*/ 191196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023960" y="378072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互相違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308-79BD-4B4E-9D90-D2F56331DCA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F1653-D668-490D-AA20-845AFC0792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相應門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1773360"/>
            <a:ext cx="2592360" cy="3960720"/>
          </a:xfrm>
          <a:prstGeom prst="vertic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心所相應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1916280"/>
            <a:ext cx="2952720" cy="3960720"/>
          </a:xfrm>
          <a:prstGeom prst="vertic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受相應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844640"/>
            <a:ext cx="1793880" cy="4105440"/>
          </a:xfrm>
          <a:prstGeom prst="borderCallout1">
            <a:avLst>
              <a:gd name="adj1" fmla="val 18750"/>
              <a:gd name="adj2" fmla="val -8333"/>
              <a:gd name="adj3" fmla="val 23203"/>
              <a:gd name="adj4" fmla="val 155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83960" y="147816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五心所與異熟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7240" y="230364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行相雖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52320" y="1206000"/>
            <a:ext cx="72900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而時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依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所緣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事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3573360"/>
            <a:ext cx="792360" cy="1584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5600" y="322344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名相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5FE-38A4-48D1-91A6-E148EBA07B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E8F51-2AB2-42C4-B0C4-CA9EE6F7B3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賴耶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性俱門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無覆無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"/>
          <p:cNvSpPr/>
          <p:nvPr/>
        </p:nvSpPr>
        <p:spPr>
          <a:xfrm>
            <a:off x="468360" y="2852640"/>
            <a:ext cx="1295280" cy="302436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88680" y="255420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阿賴耶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843280" y="2060640"/>
            <a:ext cx="914400" cy="2778120"/>
          </a:xfrm>
          <a:prstGeom prst="borderCallout1">
            <a:avLst>
              <a:gd name="adj1" fmla="val 18750"/>
              <a:gd name="adj2" fmla="val -8333"/>
              <a:gd name="adj3" fmla="val 33884"/>
              <a:gd name="adj4" fmla="val -7448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249280" y="2205000"/>
            <a:ext cx="152100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異熟性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547640" y="2492280"/>
            <a:ext cx="1224000" cy="3097440"/>
          </a:xfrm>
          <a:prstGeom prst="leftArrowCallout">
            <a:avLst>
              <a:gd name="adj1" fmla="val 63270"/>
              <a:gd name="adj2" fmla="val 63265"/>
              <a:gd name="adj3" fmla="val 16667"/>
              <a:gd name="adj4" fmla="val 7730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911600" y="1983240"/>
            <a:ext cx="8506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無覆無記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284720" y="1916280"/>
            <a:ext cx="3672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8819"/>
              <a:gd name="adj5" fmla="val 113282"/>
              <a:gd name="adj6" fmla="val -1578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633920" y="1916280"/>
            <a:ext cx="24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此識異熟性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940360" y="1052640"/>
            <a:ext cx="2952720" cy="93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361560" y="981000"/>
            <a:ext cx="16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流轉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還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883920" y="141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應不得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00360" y="4437000"/>
            <a:ext cx="1081080" cy="1224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920320" y="432360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總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211640" y="2708280"/>
            <a:ext cx="3816360" cy="609480"/>
          </a:xfrm>
          <a:prstGeom prst="borderCallout1">
            <a:avLst>
              <a:gd name="adj1" fmla="val 18750"/>
              <a:gd name="adj2" fmla="val -8333"/>
              <a:gd name="adj3" fmla="val 77865"/>
              <a:gd name="adj4" fmla="val -1331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1440" y="2565360"/>
            <a:ext cx="281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此識是善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染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140360" y="3213000"/>
            <a:ext cx="3744720" cy="1152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213880" y="3141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識是果報之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637880" y="3573360"/>
            <a:ext cx="27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為善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染法之所依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40360" y="4365720"/>
            <a:ext cx="3887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95640" y="4292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若恆是善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應不為惡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211640" y="4869000"/>
            <a:ext cx="3816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067280" y="4797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若恆是惡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應不為善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643280" y="5445000"/>
            <a:ext cx="345132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3476"/>
              <a:gd name="adj5" fmla="val -252865"/>
              <a:gd name="adj6" fmla="val -2516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998240" y="5300640"/>
            <a:ext cx="238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此識是所熏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940360" y="333360"/>
            <a:ext cx="273528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55360" y="333360"/>
            <a:ext cx="22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識若是善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24000" y="6021360"/>
            <a:ext cx="7777080" cy="620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50920" y="5950080"/>
            <a:ext cx="59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此識若善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染者如香臭應不受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012000" y="6066000"/>
            <a:ext cx="2232000" cy="603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287760" y="6041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熏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172360" y="2205000"/>
            <a:ext cx="755640" cy="3960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628400" y="2349360"/>
            <a:ext cx="1277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染淨因果俱不成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7885080" y="5084280"/>
            <a:ext cx="647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348000" y="333360"/>
            <a:ext cx="2448000" cy="692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1/2/3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別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E7D-CE99-4D4C-BF12-71FCA8A2510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06F31-6958-46A2-86A7-EEBB721AB7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釋無覆無記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"/>
          <p:cNvSpPr/>
          <p:nvPr/>
        </p:nvSpPr>
        <p:spPr>
          <a:xfrm>
            <a:off x="611280" y="3429000"/>
            <a:ext cx="1224000" cy="273672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8680" y="313020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無覆無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211640" y="907920"/>
            <a:ext cx="4465800" cy="609840"/>
          </a:xfrm>
          <a:prstGeom prst="borderCallout1">
            <a:avLst>
              <a:gd name="adj1" fmla="val 18750"/>
              <a:gd name="adj2" fmla="val -8333"/>
              <a:gd name="adj3" fmla="val 90884"/>
              <a:gd name="adj4" fmla="val -455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853160" y="907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謂染法障聖道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500720" y="4365720"/>
            <a:ext cx="3384360" cy="2087640"/>
          </a:xfrm>
          <a:prstGeom prst="borderCallout1">
            <a:avLst>
              <a:gd name="adj1" fmla="val 18750"/>
              <a:gd name="adj2" fmla="val -8333"/>
              <a:gd name="adj3" fmla="val -37185"/>
              <a:gd name="adj4" fmla="val -389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319480" y="438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427640" y="260280"/>
            <a:ext cx="446400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170680" y="333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又能蔽心令不淨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21920" y="4292640"/>
            <a:ext cx="152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謂善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196600" y="4797360"/>
            <a:ext cx="213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有愛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非愛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40240" y="5877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可記別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297760" y="5300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及殊勝自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050920" y="2349360"/>
            <a:ext cx="4392720" cy="609840"/>
          </a:xfrm>
          <a:prstGeom prst="borderCallout1">
            <a:avLst>
              <a:gd name="adj1" fmla="val 18750"/>
              <a:gd name="adj2" fmla="val -8333"/>
              <a:gd name="adj3" fmla="val 243231"/>
              <a:gd name="adj4" fmla="val -1485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09960" y="22766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此識非染故名無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124000" y="4005360"/>
            <a:ext cx="2087640" cy="1944720"/>
          </a:xfrm>
          <a:prstGeom prst="borderCallout1">
            <a:avLst>
              <a:gd name="adj1" fmla="val 18750"/>
              <a:gd name="adj2" fmla="val -8333"/>
              <a:gd name="adj3" fmla="val 72569"/>
              <a:gd name="adj4" fmla="val -3467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635280" y="1484280"/>
            <a:ext cx="1513080" cy="649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284720" y="3141720"/>
            <a:ext cx="1366920" cy="7189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473200" y="3951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此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400840" y="4508640"/>
            <a:ext cx="152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非善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458800" y="508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故名無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FB6-9E77-4B1B-A94F-481CF021AC5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F98BA-156B-4A24-83AC-86F2C35B23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頌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觸等亦如是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所例王門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"/>
          <p:cNvSpPr/>
          <p:nvPr/>
        </p:nvSpPr>
        <p:spPr>
          <a:xfrm>
            <a:off x="250920" y="1773360"/>
            <a:ext cx="1008000" cy="424800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28320" y="1851120"/>
            <a:ext cx="91152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觸等「亦如是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258920" y="1125360"/>
            <a:ext cx="936720" cy="5301000"/>
          </a:xfrm>
          <a:prstGeom prst="borderCallout1">
            <a:avLst>
              <a:gd name="adj1" fmla="val 18750"/>
              <a:gd name="adj2" fmla="val -8333"/>
              <a:gd name="adj3" fmla="val 33393"/>
              <a:gd name="adj4" fmla="val -461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64920" y="1268280"/>
            <a:ext cx="15210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諸心所法例同於心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484360" y="1484280"/>
            <a:ext cx="6408720" cy="6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1" y="13889"/>
                </a:moveTo>
                <a:lnTo>
                  <a:pt x="-257" y="3802"/>
                </a:lnTo>
              </a:path>
              <a:path w="21600" h="21600">
                <a:moveTo>
                  <a:pt x="-257" y="0"/>
                </a:moveTo>
                <a:lnTo>
                  <a:pt x="-257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411280" y="1484280"/>
            <a:ext cx="67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文法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結構分析法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隣近例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)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唯無覆無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627280" y="2276640"/>
            <a:ext cx="619272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72" y="24469"/>
                </a:moveTo>
                <a:lnTo>
                  <a:pt x="-266" y="4000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569760" y="2133720"/>
            <a:ext cx="43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文法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結構分析法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部分例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)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五種義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556000" y="3716280"/>
            <a:ext cx="63370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31" y="24413"/>
                </a:moveTo>
                <a:lnTo>
                  <a:pt x="-260" y="4000"/>
                </a:lnTo>
              </a:path>
              <a:path w="21600" h="21600">
                <a:moveTo>
                  <a:pt x="-260" y="0"/>
                </a:moveTo>
                <a:lnTo>
                  <a:pt x="-260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771640" y="4508640"/>
            <a:ext cx="59770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2" y="16367"/>
                </a:moveTo>
                <a:lnTo>
                  <a:pt x="-275" y="3426"/>
                </a:lnTo>
              </a:path>
              <a:path w="21600" h="21600">
                <a:moveTo>
                  <a:pt x="-275" y="0"/>
                </a:moveTo>
                <a:lnTo>
                  <a:pt x="-275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067280" y="1125360"/>
            <a:ext cx="482580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40360" y="1052640"/>
            <a:ext cx="50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唯以五心所法例同心王無記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771640" y="1052640"/>
            <a:ext cx="719280" cy="647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700360" y="3645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文法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結構分析法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等全例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簡別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193280" y="4437000"/>
            <a:ext cx="35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內在義理分析法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隨所應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771640" y="2708280"/>
            <a:ext cx="6156360" cy="86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844440" y="2708280"/>
            <a:ext cx="35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異熟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所緣行相俱不可知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緣三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715200" y="3068640"/>
            <a:ext cx="45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五法相應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無覆無記性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除自相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一切種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行相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捨受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340000" y="2565360"/>
            <a:ext cx="792000" cy="7923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268360" y="3573360"/>
            <a:ext cx="790920" cy="7207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084720" y="260280"/>
            <a:ext cx="2808360" cy="865080"/>
          </a:xfrm>
          <a:custGeom>
            <a:avLst/>
            <a:gdLst>
              <a:gd name="textAreaLeft" fmla="*/ 702000 w 2808360"/>
              <a:gd name="textAreaRight" fmla="*/ 2106360 w 2808360"/>
              <a:gd name="textAreaTop" fmla="*/ 0 h 865080"/>
              <a:gd name="textAreaBottom" fmla="*/ 757080 h 8650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第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為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843280" y="5157720"/>
            <a:ext cx="604980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843280" y="5084640"/>
            <a:ext cx="63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上五義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五法相應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→捨受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斷捨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411280" y="4581360"/>
            <a:ext cx="792360" cy="7923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700360" y="5661000"/>
            <a:ext cx="626436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771640" y="5589720"/>
            <a:ext cx="67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除自相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一切種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行相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了別唯是識行相故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348000" y="6093000"/>
            <a:ext cx="295272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93400" y="6093000"/>
            <a:ext cx="14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五遍行心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7FF-0328-492B-AFE2-3C97C7513B7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6B96B-229F-4407-85D2-2E9D155CC1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賴耶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因果譬喻門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"/>
          <p:cNvSpPr/>
          <p:nvPr/>
        </p:nvSpPr>
        <p:spPr>
          <a:xfrm>
            <a:off x="250920" y="1773360"/>
            <a:ext cx="1439640" cy="4103640"/>
          </a:xfrm>
          <a:prstGeom prst="wedgeRectCallout">
            <a:avLst>
              <a:gd name="adj1" fmla="val -42171"/>
              <a:gd name="adj2" fmla="val 5742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54160" y="1203840"/>
            <a:ext cx="85068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阿賴耶識為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830520" y="1132200"/>
            <a:ext cx="85068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阿賴耶識為常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403280" y="1628640"/>
            <a:ext cx="1224000" cy="4392720"/>
          </a:xfrm>
          <a:prstGeom prst="leftArrowCallout">
            <a:avLst>
              <a:gd name="adj1" fmla="val 26852"/>
              <a:gd name="adj2" fmla="val 89721"/>
              <a:gd name="adj3" fmla="val 15565"/>
              <a:gd name="adj4" fmla="val 7824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767240" y="244512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非斷非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627280" y="1916280"/>
            <a:ext cx="914400" cy="4147920"/>
          </a:xfrm>
          <a:prstGeom prst="borderCallout1">
            <a:avLst>
              <a:gd name="adj1" fmla="val 18750"/>
              <a:gd name="adj2" fmla="val -8333"/>
              <a:gd name="adj3" fmla="val 20129"/>
              <a:gd name="adj4" fmla="val -7135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703600" y="230076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以恆轉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780000" y="1700280"/>
            <a:ext cx="5113080" cy="20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64" y="8157"/>
                </a:moveTo>
                <a:lnTo>
                  <a:pt x="-322" y="1182"/>
                </a:lnTo>
              </a:path>
              <a:path w="21600" h="21600">
                <a:moveTo>
                  <a:pt x="-322" y="0"/>
                </a:moveTo>
                <a:lnTo>
                  <a:pt x="-322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569120" y="1628640"/>
            <a:ext cx="35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識無始時來一類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相續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84840" y="2133720"/>
            <a:ext cx="16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常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間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442760" y="2565360"/>
            <a:ext cx="37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是三界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六趣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四生施設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276720" y="1484280"/>
            <a:ext cx="792000" cy="7207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708360" y="4076640"/>
            <a:ext cx="5256360" cy="165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88" y="12745"/>
                </a:moveTo>
                <a:lnTo>
                  <a:pt x="-313" y="1490"/>
                </a:lnTo>
              </a:path>
              <a:path w="21600" h="21600">
                <a:moveTo>
                  <a:pt x="-313" y="0"/>
                </a:moveTo>
                <a:lnTo>
                  <a:pt x="-313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695840" y="41497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識無始時來念念生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474440" y="2998800"/>
            <a:ext cx="27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性堅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持種令不失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720320" y="4581360"/>
            <a:ext cx="31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前後變異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因滅果生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非常一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368600" y="5084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可為轉識熏成種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419640" y="3860640"/>
            <a:ext cx="649080" cy="7923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885080" y="3213000"/>
            <a:ext cx="100800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遮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451640" y="5229360"/>
            <a:ext cx="1513080" cy="57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表非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80000" y="5661000"/>
            <a:ext cx="2089080" cy="863640"/>
          </a:xfrm>
          <a:custGeom>
            <a:avLst/>
            <a:gdLst>
              <a:gd name="textAreaLeft" fmla="*/ 0 w 2089080"/>
              <a:gd name="textAreaRight" fmla="*/ 2089440 w 2089080"/>
              <a:gd name="textAreaTop" fmla="*/ 111960 h 863640"/>
              <a:gd name="textAreaBottom" fmla="*/ 7516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如瀑流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796000" y="5805360"/>
            <a:ext cx="2087640" cy="792360"/>
          </a:xfrm>
          <a:custGeom>
            <a:avLst/>
            <a:gdLst>
              <a:gd name="textAreaLeft" fmla="*/ 0 w 2087640"/>
              <a:gd name="textAreaRight" fmla="*/ 2088000 w 2087640"/>
              <a:gd name="textAreaTop" fmla="*/ 102600 h 792360"/>
              <a:gd name="textAreaBottom" fmla="*/ 6897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因果法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460-73EA-4F7B-B894-D88CD41316C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98923-AF3F-4009-BC08-4FFA20A2B0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賴耶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因果譬喻門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2637000"/>
            <a:ext cx="1224000" cy="3528720"/>
          </a:xfrm>
          <a:prstGeom prst="vertic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因果譬喻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403280" y="2276640"/>
            <a:ext cx="360036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181" y="29588"/>
                </a:moveTo>
                <a:lnTo>
                  <a:pt x="-457" y="4000"/>
                </a:lnTo>
              </a:path>
              <a:path w="21600" h="21600">
                <a:moveTo>
                  <a:pt x="-457" y="0"/>
                </a:moveTo>
                <a:lnTo>
                  <a:pt x="-457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943280" y="2205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沈浮兩趣間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332000" y="3068640"/>
            <a:ext cx="3092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48" y="37238"/>
                </a:moveTo>
                <a:lnTo>
                  <a:pt x="-532" y="4000"/>
                </a:lnTo>
              </a:path>
              <a:path w="21600" h="21600">
                <a:moveTo>
                  <a:pt x="-532" y="0"/>
                </a:moveTo>
                <a:lnTo>
                  <a:pt x="-532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98560" y="2997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逢緣波浪起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258920" y="4292640"/>
            <a:ext cx="3024000" cy="75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08" y="23919"/>
                </a:moveTo>
                <a:lnTo>
                  <a:pt x="-544" y="3274"/>
                </a:lnTo>
              </a:path>
              <a:path w="21600" h="21600">
                <a:moveTo>
                  <a:pt x="-544" y="0"/>
                </a:moveTo>
                <a:lnTo>
                  <a:pt x="-544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727280" y="4292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漂流內外物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332000" y="1844640"/>
            <a:ext cx="38894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910880" y="1773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如瀑流水非斷非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500720" y="1413000"/>
            <a:ext cx="3671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079240" y="1341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相續長時有所漂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284720" y="2997360"/>
            <a:ext cx="4211640" cy="107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284720" y="2924280"/>
            <a:ext cx="42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如瀑流水雖風等擊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142600" y="3357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諸波浪而流不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03640" y="836640"/>
            <a:ext cx="237672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識亦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979640" y="189000"/>
            <a:ext cx="6553080" cy="718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210120" y="1890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從無始來生滅相續非常非斷漂溺有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8317080" y="620640"/>
            <a:ext cx="610920" cy="201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8307360" y="692280"/>
            <a:ext cx="681120" cy="1015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35640" y="3789360"/>
            <a:ext cx="338436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21964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580000" y="2492280"/>
            <a:ext cx="1943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識亦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087600" y="371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雖遇眾緣起眼識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332000" y="4941720"/>
            <a:ext cx="7561080" cy="64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553480" y="4941720"/>
            <a:ext cx="44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如瀑流水漂水下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上魚草等物隨流不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403280" y="5516640"/>
            <a:ext cx="7489800" cy="50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與內習氣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外觸等法恆相隨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248320" y="2872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令不出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211640" y="4437000"/>
            <a:ext cx="216072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識亦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877080" y="4221000"/>
            <a:ext cx="201600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244280" y="414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而恆相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B41-F705-408A-AA9A-5A4B485B159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1A66A-636B-4398-9A2C-4F91754DD3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賴耶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因果譬喻門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2565360"/>
            <a:ext cx="1368360" cy="3673440"/>
          </a:xfrm>
          <a:prstGeom prst="vertic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因果譬喻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547640" y="2133720"/>
            <a:ext cx="309744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52" y="39769"/>
                </a:moveTo>
                <a:lnTo>
                  <a:pt x="-531" y="4000"/>
                </a:lnTo>
              </a:path>
              <a:path w="21600" h="21600">
                <a:moveTo>
                  <a:pt x="-531" y="0"/>
                </a:moveTo>
                <a:lnTo>
                  <a:pt x="-531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08764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沈浮兩趣間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780000" y="1557360"/>
            <a:ext cx="3960720" cy="646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584600" y="1557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由賴耶識五趣流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211640" y="1052640"/>
            <a:ext cx="4753080" cy="57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983120" y="981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瀑流水前能引後名非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572000" y="549360"/>
            <a:ext cx="396072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358240" y="476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後水續前稱非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643280" y="2205000"/>
            <a:ext cx="4105440" cy="719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61320" y="2205000"/>
            <a:ext cx="296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生人天喻漂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居惡趣如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403280" y="3573360"/>
            <a:ext cx="316872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63" y="32119"/>
                </a:moveTo>
                <a:lnTo>
                  <a:pt x="-519" y="4000"/>
                </a:lnTo>
              </a:path>
              <a:path w="21600" h="21600">
                <a:moveTo>
                  <a:pt x="-519" y="0"/>
                </a:moveTo>
                <a:lnTo>
                  <a:pt x="-519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870200" y="350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逢緣波浪起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427640" y="3500280"/>
            <a:ext cx="446544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356000" y="35733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顯示生眼等識受用境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619280" y="2781360"/>
            <a:ext cx="669600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025080" y="2781360"/>
            <a:ext cx="39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本識能持業煩惱等漂溺有情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以水為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332000" y="4437000"/>
            <a:ext cx="309564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38" y="16763"/>
                </a:moveTo>
                <a:lnTo>
                  <a:pt x="-532" y="4000"/>
                </a:lnTo>
              </a:path>
              <a:path w="21600" h="21600">
                <a:moveTo>
                  <a:pt x="-532" y="0"/>
                </a:moveTo>
                <a:lnTo>
                  <a:pt x="-532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727280" y="43657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漂流內外物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284720" y="4508640"/>
            <a:ext cx="4535280" cy="64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983120" y="44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顯示自性相續而不斷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35280" y="5084640"/>
            <a:ext cx="4249440" cy="93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49080" y="5067360"/>
            <a:ext cx="22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漂水下魚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水上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766960" y="5445000"/>
            <a:ext cx="24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喻內習氣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外觸受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796000" y="5300640"/>
            <a:ext cx="201780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內外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11280" y="6093000"/>
            <a:ext cx="4680000" cy="609480"/>
          </a:xfr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143960" y="5950080"/>
            <a:ext cx="218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非佛何能止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?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FBC-EFB9-442D-B171-570A3A20B8A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9645B-2334-41BD-AEB8-EEE3BF96FA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賴耶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因果譬喻門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219640" y="1752120"/>
            <a:ext cx="33480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"/>
          <p:cNvSpPr/>
          <p:nvPr/>
        </p:nvSpPr>
        <p:spPr>
          <a:xfrm>
            <a:off x="2268360" y="2708280"/>
            <a:ext cx="4608720" cy="1150920"/>
          </a:xfrm>
          <a:custGeom>
            <a:avLst/>
            <a:gdLst>
              <a:gd name="textAreaLeft" fmla="*/ 0 w 4608720"/>
              <a:gd name="textAreaRight" fmla="*/ 4609080 w 4608720"/>
              <a:gd name="textAreaTop" fmla="*/ 149040 h 1150920"/>
              <a:gd name="textAreaBottom" fmla="*/ 10018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2194920" y="3284640"/>
            <a:ext cx="5040360" cy="1150920"/>
          </a:xfrm>
          <a:custGeom>
            <a:avLst/>
            <a:gdLst>
              <a:gd name="textAreaLeft" fmla="*/ -360 w 5040360"/>
              <a:gd name="textAreaRight" fmla="*/ 5040360 w 5040360"/>
              <a:gd name="textAreaTop" fmla="*/ 149040 h 1150920"/>
              <a:gd name="textAreaBottom" fmla="*/ 10018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340000" y="3860640"/>
            <a:ext cx="5256360" cy="1150920"/>
          </a:xfrm>
          <a:custGeom>
            <a:avLst/>
            <a:gdLst>
              <a:gd name="textAreaLeft" fmla="*/ 0 w 5256360"/>
              <a:gd name="textAreaRight" fmla="*/ 5256360 w 5256360"/>
              <a:gd name="textAreaTop" fmla="*/ 149040 h 1150920"/>
              <a:gd name="textAreaBottom" fmla="*/ 10018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5435640" y="1773360"/>
            <a:ext cx="1165320" cy="146520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3"/>
          <a:stretch/>
        </p:blipFill>
        <p:spPr>
          <a:xfrm>
            <a:off x="7093080" y="4005360"/>
            <a:ext cx="919080" cy="88560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4"/>
          <a:stretch/>
        </p:blipFill>
        <p:spPr>
          <a:xfrm>
            <a:off x="6084720" y="4653000"/>
            <a:ext cx="873360" cy="122544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5"/>
          <a:stretch/>
        </p:blipFill>
        <p:spPr>
          <a:xfrm>
            <a:off x="1763640" y="4869000"/>
            <a:ext cx="1222560" cy="122544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6"/>
          <a:stretch/>
        </p:blipFill>
        <p:spPr>
          <a:xfrm>
            <a:off x="3851280" y="4724280"/>
            <a:ext cx="1355760" cy="101772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3731400" y="33577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生死輪迴大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987000" y="3933720"/>
            <a:ext cx="25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沈浮兩趣間喻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7"/>
          <a:stretch/>
        </p:blipFill>
        <p:spPr>
          <a:xfrm>
            <a:off x="1547640" y="429264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8"/>
          <a:stretch/>
        </p:blipFill>
        <p:spPr>
          <a:xfrm>
            <a:off x="2987640" y="4869000"/>
            <a:ext cx="1150920" cy="105552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9"/>
          <a:stretch/>
        </p:blipFill>
        <p:spPr>
          <a:xfrm>
            <a:off x="6948360" y="4869000"/>
            <a:ext cx="1295640" cy="92520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10"/>
          <a:stretch/>
        </p:blipFill>
        <p:spPr>
          <a:xfrm>
            <a:off x="3708360" y="1773360"/>
            <a:ext cx="1800360" cy="135072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11"/>
          <a:stretch/>
        </p:blipFill>
        <p:spPr>
          <a:xfrm>
            <a:off x="5076720" y="494172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12"/>
          <a:stretch/>
        </p:blipFill>
        <p:spPr>
          <a:xfrm>
            <a:off x="2771640" y="1557360"/>
            <a:ext cx="1189080" cy="158436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13"/>
          <a:stretch/>
        </p:blipFill>
        <p:spPr>
          <a:xfrm>
            <a:off x="6948360" y="4869000"/>
            <a:ext cx="1295640" cy="92520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14"/>
          <a:stretch/>
        </p:blipFill>
        <p:spPr>
          <a:xfrm>
            <a:off x="6948360" y="4869000"/>
            <a:ext cx="1295640" cy="92520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6877080" y="1197000"/>
            <a:ext cx="1440000" cy="1655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24000" y="4724280"/>
            <a:ext cx="1368360" cy="14414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049520" y="1557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生人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04320" y="198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喻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96440" y="4941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居惡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79960" y="5373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如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7A5-DA67-43A0-B95B-5DF1BE798F4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1EFD5-08E4-4304-BBED-D34C1B1D78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賴耶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因果譬喻門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"/>
          <p:cNvSpPr/>
          <p:nvPr/>
        </p:nvSpPr>
        <p:spPr>
          <a:xfrm>
            <a:off x="2124000" y="2852640"/>
            <a:ext cx="4608720" cy="2305080"/>
          </a:xfrm>
          <a:custGeom>
            <a:avLst/>
            <a:gdLst>
              <a:gd name="textAreaLeft" fmla="*/ 0 w 4608720"/>
              <a:gd name="textAreaRight" fmla="*/ 4609080 w 4608720"/>
              <a:gd name="textAreaTop" fmla="*/ 298800 h 2305080"/>
              <a:gd name="textAreaBottom" fmla="*/ 200628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556000" y="3141720"/>
            <a:ext cx="4752720" cy="2448000"/>
          </a:xfrm>
          <a:custGeom>
            <a:avLst/>
            <a:gdLst>
              <a:gd name="textAreaLeft" fmla="*/ 0 w 4752720"/>
              <a:gd name="textAreaRight" fmla="*/ 4753080 w 4752720"/>
              <a:gd name="textAreaTop" fmla="*/ 317160 h 2448000"/>
              <a:gd name="textAreaBottom" fmla="*/ 2130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916360" y="3500280"/>
            <a:ext cx="4608360" cy="2376720"/>
          </a:xfrm>
          <a:custGeom>
            <a:avLst/>
            <a:gdLst>
              <a:gd name="textAreaLeft" fmla="*/ 0 w 4608360"/>
              <a:gd name="textAreaRight" fmla="*/ 4608720 w 4608360"/>
              <a:gd name="textAreaTop" fmla="*/ 307800 h 2376720"/>
              <a:gd name="textAreaBottom" fmla="*/ 206892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逢緣波浪起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564000" y="2133720"/>
            <a:ext cx="3600360" cy="609480"/>
          </a:xfrm>
          <a:prstGeom prst="borderCallout1">
            <a:avLst>
              <a:gd name="adj1" fmla="val 18750"/>
              <a:gd name="adj2" fmla="val -8333"/>
              <a:gd name="adj3" fmla="val 136717"/>
              <a:gd name="adj4" fmla="val -2014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094280" y="2133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波浪示遇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4788000" y="2637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076720" y="1557360"/>
            <a:ext cx="3743280" cy="6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36960" y="1557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生眼等識受用境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718-9C4A-4FE5-9A51-23F313B0F5F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D9881-8930-4AFF-B0A4-23C1998EF9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賴耶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因果譬喻門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"/>
          <p:cNvSpPr/>
          <p:nvPr/>
        </p:nvSpPr>
        <p:spPr>
          <a:xfrm>
            <a:off x="1979640" y="2492280"/>
            <a:ext cx="4608360" cy="2737080"/>
          </a:xfrm>
          <a:custGeom>
            <a:avLst/>
            <a:gdLst>
              <a:gd name="textAreaLeft" fmla="*/ 0 w 4608360"/>
              <a:gd name="textAreaRight" fmla="*/ 4608720 w 4608360"/>
              <a:gd name="textAreaTop" fmla="*/ 354600 h 2737080"/>
              <a:gd name="textAreaBottom" fmla="*/ 238248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411280" y="2997360"/>
            <a:ext cx="4392720" cy="2808000"/>
          </a:xfrm>
          <a:custGeom>
            <a:avLst/>
            <a:gdLst>
              <a:gd name="textAreaLeft" fmla="*/ 0 w 4392720"/>
              <a:gd name="textAreaRight" fmla="*/ 4393080 w 439272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700360" y="3573360"/>
            <a:ext cx="4392720" cy="2232000"/>
          </a:xfrm>
          <a:custGeom>
            <a:avLst/>
            <a:gdLst>
              <a:gd name="textAreaLeft" fmla="*/ 0 w 4392720"/>
              <a:gd name="textAreaRight" fmla="*/ 4393080 w 4392720"/>
              <a:gd name="textAreaTop" fmla="*/ 289080 h 2232000"/>
              <a:gd name="textAreaBottom" fmla="*/ 194292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04120" y="378936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漂流內外物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2987640" y="1700280"/>
            <a:ext cx="2268720" cy="115236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5219640" y="1916280"/>
            <a:ext cx="2881440" cy="504720"/>
          </a:xfrm>
          <a:prstGeom prst="borderCallout1">
            <a:avLst>
              <a:gd name="adj1" fmla="val 18750"/>
              <a:gd name="adj2" fmla="val -8333"/>
              <a:gd name="adj3" fmla="val 79560"/>
              <a:gd name="adj4" fmla="val -1967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770080" y="1844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水上草謂外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508720" y="1197000"/>
            <a:ext cx="273528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875920" y="119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喻觸受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3"/>
          <a:stretch/>
        </p:blipFill>
        <p:spPr>
          <a:xfrm>
            <a:off x="2987640" y="4724280"/>
            <a:ext cx="1295280" cy="92556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4067280" y="5877000"/>
            <a:ext cx="3817800" cy="609480"/>
          </a:xfrm>
          <a:prstGeom prst="borderCallout1">
            <a:avLst>
              <a:gd name="adj1" fmla="val 18750"/>
              <a:gd name="adj2" fmla="val -8333"/>
              <a:gd name="adj3" fmla="val -92189"/>
              <a:gd name="adj4" fmla="val -1297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4"/>
          <a:stretch/>
        </p:blipFill>
        <p:spPr>
          <a:xfrm>
            <a:off x="4356000" y="4653000"/>
            <a:ext cx="1295640" cy="92556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4708800" y="5805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水下魚謂內習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967120" y="438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68360" y="1844640"/>
            <a:ext cx="1272960" cy="4248360"/>
          </a:xfr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43600" y="1507680"/>
            <a:ext cx="78984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顯示自性相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975600" y="32043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而不斷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FAE-A2BC-4A51-A9AA-9580542D888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4025C-50DA-4F66-A908-4AD4C8F7E2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賴耶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因果譬喻門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2349360"/>
            <a:ext cx="1152360" cy="3745080"/>
          </a:xfrm>
          <a:prstGeom prst="vertic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因果譬喻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187280" y="1773360"/>
            <a:ext cx="1224000" cy="46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65" y="3847"/>
                </a:moveTo>
                <a:lnTo>
                  <a:pt x="-1345" y="528"/>
                </a:lnTo>
              </a:path>
              <a:path w="21600" h="21600">
                <a:moveTo>
                  <a:pt x="-1345" y="0"/>
                </a:moveTo>
                <a:lnTo>
                  <a:pt x="-1345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119960" y="132408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如是法喻意顯此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623240" y="1025280"/>
            <a:ext cx="78984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無始因果非斷非常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11280" y="1700280"/>
            <a:ext cx="1871640" cy="482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34" y="512"/>
                </a:moveTo>
                <a:lnTo>
                  <a:pt x="-879" y="512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489040" y="569520"/>
            <a:ext cx="729000" cy="69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識性無始時來剎那剎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063600" y="1005480"/>
            <a:ext cx="729000" cy="60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果生因滅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果生故非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497040" y="351756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因滅故非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211640" y="1484280"/>
            <a:ext cx="1295280" cy="518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215960" y="2258640"/>
            <a:ext cx="7290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非斷非常是緣起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647960" y="1157400"/>
            <a:ext cx="72900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故說此識恆轉如瀑流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68360" y="260280"/>
            <a:ext cx="7229520" cy="609840"/>
          </a:xfrm>
          <a:prstGeom prst="borderCallout1">
            <a:avLst>
              <a:gd name="adj1" fmla="val 18750"/>
              <a:gd name="adj2" fmla="val -8333"/>
              <a:gd name="adj3" fmla="val 325782"/>
              <a:gd name="adj4" fmla="val 4117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2400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果生故非斷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後法續故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因滅故非常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不恆住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292720" y="1700280"/>
            <a:ext cx="1008000" cy="4968720"/>
          </a:xfrm>
          <a:prstGeom prst="leftArrowCallout">
            <a:avLst>
              <a:gd name="adj1" fmla="val 123243"/>
              <a:gd name="adj2" fmla="val 123232"/>
              <a:gd name="adj3" fmla="val 16667"/>
              <a:gd name="adj4" fmla="val 7706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583600" y="737640"/>
            <a:ext cx="667800" cy="67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前因後滅如稱兩頭低昇時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227640" y="1557360"/>
            <a:ext cx="1511280" cy="4960800"/>
          </a:xfrm>
          <a:prstGeom prst="borderCallout1">
            <a:avLst>
              <a:gd name="adj1" fmla="val 18750"/>
              <a:gd name="adj2" fmla="val -8333"/>
              <a:gd name="adj3" fmla="val 1472"/>
              <a:gd name="adj4" fmla="val -504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231600" y="737640"/>
            <a:ext cx="667800" cy="67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我宗因果前因滅位後果即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663240" y="737640"/>
            <a:ext cx="667800" cy="67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中間無隔因果不斷如秤兩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096680" y="585720"/>
            <a:ext cx="667800" cy="70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低昂時等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由彼低時此昇時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812000" y="1341360"/>
            <a:ext cx="1081080" cy="489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22" y="2724"/>
                </a:moveTo>
                <a:lnTo>
                  <a:pt x="-1522" y="504"/>
                </a:lnTo>
              </a:path>
              <a:path w="21600" h="21600">
                <a:moveTo>
                  <a:pt x="-1522" y="0"/>
                </a:moveTo>
                <a:lnTo>
                  <a:pt x="-1522" y="21600"/>
                </a:lnTo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815960" y="450360"/>
            <a:ext cx="667800" cy="67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應信大乘緣起正理深妙離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8247600" y="189792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因果等言皆假施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33B-7378-4CC2-B602-F244E088B2F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0CF06-A5FB-4EE5-BCC1-40BE82FE88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心所相應門</a:t>
            </a: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總說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2133720"/>
            <a:ext cx="1368360" cy="3959280"/>
          </a:xfrm>
          <a:prstGeom prst="vertic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賴耶五心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5300640"/>
            <a:ext cx="1079280" cy="136836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71640" y="4581360"/>
            <a:ext cx="1079640" cy="13687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3645000"/>
            <a:ext cx="1079640" cy="136836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2924280"/>
            <a:ext cx="1079640" cy="136836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1700280"/>
            <a:ext cx="1079640" cy="136836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31240" y="295668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作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5600" y="419976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91600" y="499176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5960" y="585720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08000" y="278136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763640" y="371592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835280" y="4581000"/>
            <a:ext cx="865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5445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5805360"/>
            <a:ext cx="1366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07" idx="3"/>
            <a:endCxn id="111" idx="3"/>
          </p:cNvCxnSpPr>
          <p:nvPr/>
        </p:nvCxnSpPr>
        <p:spPr>
          <a:xfrm>
            <a:off x="3347640" y="2384280"/>
            <a:ext cx="578520" cy="3866400"/>
          </a:xfrm>
          <a:prstGeom prst="bentConnector3">
            <a:avLst>
              <a:gd name="adj1" fmla="val 13953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3564000" y="32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422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501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2852640"/>
            <a:ext cx="4608360" cy="18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81600" y="28526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阿賴耶識無始時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20200" y="33577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乃至未轉於一切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15040" y="38606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恆與此五心所相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5013360"/>
            <a:ext cx="4176720" cy="609480"/>
          </a:xfrm>
          <a:prstGeom prst="borderCallout1">
            <a:avLst>
              <a:gd name="adj1" fmla="val 18750"/>
              <a:gd name="adj2" fmla="val -8333"/>
              <a:gd name="adj3" fmla="val -99481"/>
              <a:gd name="adj4" fmla="val -104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31040" y="49417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以是遍行心所攝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2720" y="1773360"/>
            <a:ext cx="2587680" cy="761760"/>
          </a:xfrm>
          <a:prstGeom prst="borderCallout1">
            <a:avLst>
              <a:gd name="adj1" fmla="val 18750"/>
              <a:gd name="adj2" fmla="val -8333"/>
              <a:gd name="adj3" fmla="val 166250"/>
              <a:gd name="adj4" fmla="val -2797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2720" y="692280"/>
            <a:ext cx="3382920" cy="720720"/>
          </a:xfrm>
          <a:prstGeom prst="borderCallout1">
            <a:avLst>
              <a:gd name="adj1" fmla="val 18750"/>
              <a:gd name="adj2" fmla="val -8333"/>
              <a:gd name="adj3" fmla="val 323787"/>
              <a:gd name="adj4" fmla="val -25199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8880" y="692280"/>
            <a:ext cx="17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除佛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餘一切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1844640"/>
            <a:ext cx="1440000" cy="711360"/>
          </a:xfrm>
          <a:prstGeom prst="borderCallout1">
            <a:avLst>
              <a:gd name="adj1" fmla="val 18750"/>
              <a:gd name="adj2" fmla="val -8333"/>
              <a:gd name="adj3" fmla="val 168527"/>
              <a:gd name="adj4" fmla="val -1797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40480" y="1916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釋因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5400" y="177336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釋「常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32320" y="5762520"/>
            <a:ext cx="4027320" cy="609840"/>
          </a:xfrm>
          <a:prstGeom prst="borderCallout1">
            <a:avLst>
              <a:gd name="adj1" fmla="val 18750"/>
              <a:gd name="adj2" fmla="val -8333"/>
              <a:gd name="adj3" fmla="val -205731"/>
              <a:gd name="adj4" fmla="val -366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13520" y="56610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不與餘心所相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6F4-ED98-4CF8-968C-B45E6EA8D22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458BA-AB8E-45BD-B45D-8CECC44219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因果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譬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"/>
          <p:cNvSpPr/>
          <p:nvPr/>
        </p:nvSpPr>
        <p:spPr>
          <a:xfrm>
            <a:off x="250920" y="2349360"/>
            <a:ext cx="1079280" cy="33847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28320" y="1938960"/>
            <a:ext cx="91152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因果譬喻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979640" y="1773360"/>
            <a:ext cx="691344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38" y="39769"/>
                </a:moveTo>
                <a:lnTo>
                  <a:pt x="-238" y="4000"/>
                </a:lnTo>
              </a:path>
              <a:path w="21600" h="21600">
                <a:moveTo>
                  <a:pt x="-238" y="0"/>
                </a:moveTo>
                <a:lnTo>
                  <a:pt x="-238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847320" y="1714680"/>
            <a:ext cx="5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前生後滅→相續如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692360" y="2349360"/>
            <a:ext cx="745164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186800" y="2276640"/>
            <a:ext cx="22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豈假去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來是有→方成因果不斷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763640" y="2997360"/>
            <a:ext cx="712476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5" y="38250"/>
                </a:moveTo>
                <a:lnTo>
                  <a:pt x="-231" y="4000"/>
                </a:lnTo>
              </a:path>
              <a:path w="21600" h="21600">
                <a:moveTo>
                  <a:pt x="-231" y="0"/>
                </a:moveTo>
                <a:lnTo>
                  <a:pt x="-231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638880" y="2927520"/>
            <a:ext cx="177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藉去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來→因果足顯不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835280" y="3573360"/>
            <a:ext cx="676908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099240" y="3486240"/>
            <a:ext cx="34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但一種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在現在時→流入過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050920" y="4149720"/>
            <a:ext cx="576108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784240" y="4076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之種子後念即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835280" y="4724280"/>
            <a:ext cx="6697440" cy="6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49280" y="46702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剎那剎那恆時現在→而是無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195640" y="5300640"/>
            <a:ext cx="5761080" cy="1295280"/>
          </a:xfrm>
          <a:prstGeom prst="upArrowCallout">
            <a:avLst>
              <a:gd name="adj1" fmla="val 111204"/>
              <a:gd name="adj2" fmla="val 111194"/>
              <a:gd name="adj3" fmla="val 16667"/>
              <a:gd name="adj4" fmla="val 6666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因果不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064-859C-4854-8C00-A3F780F7F1D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21E10-C587-4A32-9CD9-0912F76560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因果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三世說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"/>
          <p:cNvSpPr/>
          <p:nvPr/>
        </p:nvSpPr>
        <p:spPr>
          <a:xfrm>
            <a:off x="1403280" y="1773360"/>
            <a:ext cx="2664000" cy="3528720"/>
          </a:xfrm>
          <a:prstGeom prst="verticalScroll">
            <a:avLst>
              <a:gd name="adj" fmla="val 2264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843280" y="2205000"/>
            <a:ext cx="2736720" cy="3456000"/>
          </a:xfrm>
          <a:prstGeom prst="verticalScroll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356000" y="2276640"/>
            <a:ext cx="2521080" cy="3600360"/>
          </a:xfrm>
          <a:prstGeom prst="verticalScroll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神變三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273040" y="204912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道理三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713040" y="248112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唯識三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8F9-AEDE-4619-920A-E569150CAB8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4A0F5-5A67-4E73-81AF-1E1D423D4D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賴耶</a:t>
            </a: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非常非斷</a:t>
            </a: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因果</a:t>
            </a: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緣起正理門</a:t>
            </a: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1773360"/>
            <a:ext cx="3276720" cy="4751280"/>
          </a:xfrm>
          <a:prstGeom prst="vertic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43240" y="1594440"/>
            <a:ext cx="85068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大乘緣起正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90880" y="208476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深妙離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838520" y="1102320"/>
            <a:ext cx="8506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因果等言皆假施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276720" y="2565360"/>
            <a:ext cx="2232000" cy="825480"/>
          </a:xfrm>
          <a:prstGeom prst="borderCallout1">
            <a:avLst>
              <a:gd name="adj1" fmla="val 18750"/>
              <a:gd name="adj2" fmla="val -8333"/>
              <a:gd name="adj3" fmla="val -3652"/>
              <a:gd name="adj4" fmla="val -6792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654360" y="263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現在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788000" y="2060640"/>
            <a:ext cx="2735280" cy="647640"/>
          </a:xfrm>
          <a:custGeom>
            <a:avLst/>
            <a:gdLst>
              <a:gd name="textAreaLeft" fmla="*/ 478440 w 2735280"/>
              <a:gd name="textAreaRight" fmla="*/ 1983240 w 273528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09600" y="206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300720" y="2708280"/>
            <a:ext cx="1440000" cy="1081080"/>
          </a:xfrm>
          <a:prstGeom prst="hexagon">
            <a:avLst>
              <a:gd name="adj" fmla="val 33300"/>
              <a:gd name="vf" fmla="val 1154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後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596360" y="2924280"/>
            <a:ext cx="1296720" cy="15843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671600" y="288360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假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8031960" y="309960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當</a:t>
            </a:r>
            <a:r>
              <a:rPr b="0" lang="zh-TW" sz="4000" spc="-1" strike="noStrike">
                <a:solidFill>
                  <a:srgbClr val="cc0000"/>
                </a:solidFill>
                <a:latin typeface="Verdana"/>
              </a:rPr>
              <a:t>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635280" y="1413000"/>
            <a:ext cx="1152720" cy="13683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639240" y="129924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對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071240" y="144360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現</a:t>
            </a:r>
            <a:r>
              <a:rPr b="0" lang="zh-TW" sz="4000" spc="-1" strike="noStrike">
                <a:solidFill>
                  <a:srgbClr val="cc0000"/>
                </a:solidFill>
                <a:latin typeface="Verdana"/>
              </a:rPr>
              <a:t>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508720" y="4653000"/>
            <a:ext cx="1800000" cy="754200"/>
          </a:xfrm>
          <a:prstGeom prst="borderCallout1">
            <a:avLst>
              <a:gd name="adj1" fmla="val 18750"/>
              <a:gd name="adj2" fmla="val -8333"/>
              <a:gd name="adj3" fmla="val 15157"/>
              <a:gd name="adj4" fmla="val -17601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815080" y="4724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現在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87640" y="3933720"/>
            <a:ext cx="1513080" cy="1368360"/>
          </a:xfrm>
          <a:prstGeom prst="pentagon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851280" y="3500280"/>
            <a:ext cx="1297080" cy="13701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99600" y="338832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假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431600" y="353124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曾</a:t>
            </a:r>
            <a:r>
              <a:rPr b="0" lang="zh-TW" sz="4000" spc="-1" strike="noStrike">
                <a:solidFill>
                  <a:srgbClr val="cc0000"/>
                </a:solidFill>
                <a:latin typeface="Verdana"/>
              </a:rPr>
              <a:t>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292720" y="3645000"/>
            <a:ext cx="1152360" cy="12254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296680" y="345996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對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799960" y="360432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現</a:t>
            </a:r>
            <a:r>
              <a:rPr b="0" lang="zh-TW" sz="4000" spc="-1" strike="noStrike">
                <a:solidFill>
                  <a:srgbClr val="cc0000"/>
                </a:solidFill>
                <a:latin typeface="Verdana"/>
              </a:rPr>
              <a:t>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2" name=""/>
          <p:cNvCxnSpPr>
            <a:stCxn id="952" idx="0"/>
          </p:cNvCxnSpPr>
          <p:nvPr/>
        </p:nvCxnSpPr>
        <p:spPr>
          <a:xfrm flipH="1" rot="16200000">
            <a:off x="5705280" y="387000"/>
            <a:ext cx="1440360" cy="3923640"/>
          </a:xfrm>
          <a:prstGeom prst="bentConnector4">
            <a:avLst>
              <a:gd name="adj1" fmla="val -15875"/>
              <a:gd name="adj2" fmla="val 994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3419640" y="5229360"/>
            <a:ext cx="3528720" cy="1008000"/>
          </a:xfrm>
          <a:custGeom>
            <a:avLst/>
            <a:gdLst>
              <a:gd name="textAreaLeft" fmla="*/ 617400 w 3528720"/>
              <a:gd name="textAreaRight" fmla="*/ 2558520 w 352872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729040" y="5361120"/>
            <a:ext cx="7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5" name=""/>
          <p:cNvCxnSpPr>
            <a:stCxn id="958" idx="1"/>
            <a:endCxn id="961" idx="1"/>
          </p:cNvCxnSpPr>
          <p:nvPr/>
        </p:nvCxnSpPr>
        <p:spPr>
          <a:xfrm flipH="1" flipV="1" rot="10800000">
            <a:off x="4426560" y="4269240"/>
            <a:ext cx="1369080" cy="73800"/>
          </a:xfrm>
          <a:prstGeom prst="bentConnector5">
            <a:avLst>
              <a:gd name="adj1" fmla="val -16701"/>
              <a:gd name="adj2" fmla="val -1071568"/>
              <a:gd name="adj3" fmla="val 7898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66" name=""/>
          <p:cNvSpPr/>
          <p:nvPr/>
        </p:nvSpPr>
        <p:spPr>
          <a:xfrm>
            <a:off x="3162240" y="4199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496320" y="434412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3950-2308-4582-A99E-E9BBD0DECD4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0C56F-355C-43D5-A629-06557B541D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賴耶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非常非斷</a:t>
            </a: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因果</a:t>
            </a: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道理</a:t>
            </a: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唯識三世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"/>
          <p:cNvSpPr/>
          <p:nvPr/>
        </p:nvSpPr>
        <p:spPr>
          <a:xfrm>
            <a:off x="0" y="1773360"/>
            <a:ext cx="1979640" cy="3960720"/>
          </a:xfrm>
          <a:prstGeom prst="vertic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27240" y="2194920"/>
            <a:ext cx="85068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因果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等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195640" y="1484280"/>
            <a:ext cx="66960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98" y="32119"/>
                </a:moveTo>
                <a:lnTo>
                  <a:pt x="-246" y="4000"/>
                </a:lnTo>
              </a:path>
              <a:path w="21600" h="21600">
                <a:moveTo>
                  <a:pt x="-246" y="0"/>
                </a:moveTo>
                <a:lnTo>
                  <a:pt x="-246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242160" y="1413000"/>
            <a:ext cx="44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今明諸法自相離言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大乘唯有現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556000" y="189000"/>
            <a:ext cx="115236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613" y="72956"/>
                </a:moveTo>
                <a:lnTo>
                  <a:pt x="-1428" y="4000"/>
                </a:lnTo>
              </a:path>
              <a:path w="21600" h="21600">
                <a:moveTo>
                  <a:pt x="-1428" y="0"/>
                </a:moveTo>
                <a:lnTo>
                  <a:pt x="-1428" y="21600"/>
                </a:lnTo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116000" y="189000"/>
            <a:ext cx="1079640" cy="57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15" y="72774"/>
                </a:moveTo>
                <a:lnTo>
                  <a:pt x="-1525" y="4284"/>
                </a:lnTo>
              </a:path>
              <a:path w="21600" h="21600">
                <a:moveTo>
                  <a:pt x="-1525" y="0"/>
                </a:moveTo>
                <a:lnTo>
                  <a:pt x="-1525" y="21600"/>
                </a:lnTo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971640" y="115920"/>
            <a:ext cx="130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立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709360" y="1159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正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124000" y="2060640"/>
            <a:ext cx="684072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8" y="27000"/>
                </a:moveTo>
                <a:lnTo>
                  <a:pt x="-241" y="4000"/>
                </a:lnTo>
              </a:path>
              <a:path w="21600" h="21600">
                <a:moveTo>
                  <a:pt x="-241" y="0"/>
                </a:moveTo>
                <a:lnTo>
                  <a:pt x="-241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979640" y="2637000"/>
            <a:ext cx="5756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96" y="21938"/>
                </a:moveTo>
                <a:lnTo>
                  <a:pt x="-286" y="4000"/>
                </a:lnTo>
              </a:path>
              <a:path w="21600" h="21600">
                <a:moveTo>
                  <a:pt x="-286" y="0"/>
                </a:moveTo>
                <a:lnTo>
                  <a:pt x="-286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078360" y="25653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觀此現法有能引生當果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050920" y="3213000"/>
            <a:ext cx="6193080" cy="609840"/>
          </a:xfrm>
          <a:prstGeom prst="borderCallout1">
            <a:avLst>
              <a:gd name="adj1" fmla="val 18750"/>
              <a:gd name="adj2" fmla="val -8333"/>
              <a:gd name="adj3" fmla="val 66148"/>
              <a:gd name="adj4" fmla="val -938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169800" y="31417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當果雖無而現在法上有引彼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835280" y="3716280"/>
            <a:ext cx="5972040" cy="609480"/>
          </a:xfrm>
          <a:prstGeom prst="borderCallout1">
            <a:avLst>
              <a:gd name="adj1" fmla="val 18750"/>
              <a:gd name="adj2" fmla="val -8333"/>
              <a:gd name="adj3" fmla="val 42449"/>
              <a:gd name="adj4" fmla="val -97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934000" y="364500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行者尋見現法之上有此功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076720" y="189000"/>
            <a:ext cx="3889440" cy="609480"/>
          </a:xfr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310000" y="189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現在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659640" y="404640"/>
            <a:ext cx="649080" cy="287640"/>
          </a:xfrm>
          <a:prstGeom prst="leftRightArrow">
            <a:avLst>
              <a:gd name="adj1" fmla="val 50000"/>
              <a:gd name="adj2" fmla="val 4492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542360" y="189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未來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908000" y="4221000"/>
            <a:ext cx="63360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6" y="16819"/>
                </a:moveTo>
                <a:lnTo>
                  <a:pt x="-260" y="4000"/>
                </a:lnTo>
              </a:path>
              <a:path w="21600" h="21600">
                <a:moveTo>
                  <a:pt x="-260" y="0"/>
                </a:moveTo>
                <a:lnTo>
                  <a:pt x="-260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098520" y="41497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觀此法果→遂心變作未來之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124000" y="4724280"/>
            <a:ext cx="5180040" cy="56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6" y="13734"/>
                </a:moveTo>
                <a:lnTo>
                  <a:pt x="-318" y="4356"/>
                </a:lnTo>
              </a:path>
              <a:path w="21600" h="21600">
                <a:moveTo>
                  <a:pt x="-318" y="0"/>
                </a:moveTo>
                <a:lnTo>
                  <a:pt x="-318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857680" y="4581360"/>
            <a:ext cx="30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相似未來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實是現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79640" y="5157720"/>
            <a:ext cx="561672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29" y="5063"/>
                </a:moveTo>
                <a:lnTo>
                  <a:pt x="-293" y="400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835280" y="508464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即假說此所變未來名為當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835280" y="5661000"/>
            <a:ext cx="669744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047400" y="55897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對此假當有之果而說現在法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30520" y="186912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皆假施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150720" y="1989000"/>
            <a:ext cx="41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宗明唯識是道理三世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唯識三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11280" y="6093000"/>
            <a:ext cx="7632720" cy="620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801440" y="602136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未來果即觀現法功能而假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E8F-EDBD-4232-AA92-18BFB62DDCA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FC366-4700-46CD-8BA2-9948F07C4A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唯識三世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"/>
          <p:cNvSpPr/>
          <p:nvPr/>
        </p:nvSpPr>
        <p:spPr>
          <a:xfrm>
            <a:off x="900000" y="2565360"/>
            <a:ext cx="1008000" cy="2735280"/>
          </a:xfrm>
          <a:custGeom>
            <a:avLst/>
            <a:gdLst>
              <a:gd name="textAreaLeft" fmla="*/ 236880 w 1008000"/>
              <a:gd name="textAreaRight" fmla="*/ 770400 w 1008000"/>
              <a:gd name="textAreaTop" fmla="*/ 321480 h 2735280"/>
              <a:gd name="textAreaBottom" fmla="*/ 1715760 h 2735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047600" y="2375640"/>
            <a:ext cx="91152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識自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268360" y="2349360"/>
            <a:ext cx="1224000" cy="1079640"/>
          </a:xfrm>
          <a:custGeom>
            <a:avLst/>
            <a:gdLst>
              <a:gd name="textAreaLeft" fmla="*/ 0 w 1224000"/>
              <a:gd name="textAreaRight" fmla="*/ 1224360 w 1224000"/>
              <a:gd name="textAreaTop" fmla="*/ 139680 h 1079640"/>
              <a:gd name="textAreaBottom" fmla="*/ 939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見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195640" y="4149720"/>
            <a:ext cx="1224000" cy="1079640"/>
          </a:xfrm>
          <a:custGeom>
            <a:avLst/>
            <a:gdLst>
              <a:gd name="textAreaLeft" fmla="*/ 0 w 1224000"/>
              <a:gd name="textAreaRight" fmla="*/ 1224360 w 1224000"/>
              <a:gd name="textAreaTop" fmla="*/ 139680 h 1079640"/>
              <a:gd name="textAreaBottom" fmla="*/ 939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相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1619280" y="278100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403280" y="4292640"/>
            <a:ext cx="936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995640" y="2060640"/>
            <a:ext cx="2160720" cy="1368360"/>
          </a:xfrm>
          <a:custGeom>
            <a:avLst/>
            <a:gdLst>
              <a:gd name="textAreaLeft" fmla="*/ 0 w 2160720"/>
              <a:gd name="textAreaRight" fmla="*/ 2160720 w 2160720"/>
              <a:gd name="textAreaTop" fmla="*/ 177120 h 1368360"/>
              <a:gd name="textAreaBottom" fmla="*/ 1191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似見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995640" y="3789360"/>
            <a:ext cx="2160720" cy="2087640"/>
          </a:xfrm>
          <a:custGeom>
            <a:avLst/>
            <a:gdLst>
              <a:gd name="textAreaLeft" fmla="*/ 0 w 2160720"/>
              <a:gd name="textAreaRight" fmla="*/ 2160720 w 2160720"/>
              <a:gd name="textAreaTop" fmla="*/ 270360 h 2087640"/>
              <a:gd name="textAreaBottom" fmla="*/ 1817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3348000" y="270828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276720" y="4724280"/>
            <a:ext cx="86364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164360" y="3213000"/>
            <a:ext cx="1441440" cy="1224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507560" y="422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似過去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108680" y="4724280"/>
            <a:ext cx="177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或未來相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796000" y="2637000"/>
            <a:ext cx="16556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6084720" y="3860640"/>
            <a:ext cx="1295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7528680" y="302796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現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CB6-719F-4531-8530-17D9F3C2F67B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E88D2-CBBF-46DC-85F9-65A83710DE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唯識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三世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"/>
          <p:cNvSpPr/>
          <p:nvPr/>
        </p:nvSpPr>
        <p:spPr>
          <a:xfrm>
            <a:off x="250920" y="1989000"/>
            <a:ext cx="1368360" cy="388800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43240" y="215784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唯識三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984320" y="1801800"/>
            <a:ext cx="489276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243" y="21938"/>
                </a:moveTo>
                <a:lnTo>
                  <a:pt x="-336" y="4000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103480" y="1795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804040" y="1700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觀現在法有酬前之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708360" y="620640"/>
            <a:ext cx="4032360" cy="75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73" y="38334"/>
                </a:moveTo>
                <a:lnTo>
                  <a:pt x="-408" y="327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086360" y="620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現在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435640" y="907920"/>
            <a:ext cx="576360" cy="289080"/>
          </a:xfrm>
          <a:prstGeom prst="leftRightArrow">
            <a:avLst>
              <a:gd name="adj1" fmla="val 50000"/>
              <a:gd name="adj2" fmla="val 3969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246720" y="620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過去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050920" y="2349360"/>
            <a:ext cx="525780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765880" y="22766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即異熟所變之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24000" y="2852640"/>
            <a:ext cx="583272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223080" y="27813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觀此所從生處而心變為過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68360" y="3429000"/>
            <a:ext cx="5832720" cy="6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207680" y="3357720"/>
            <a:ext cx="5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實非過去→而是現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84360" y="3933720"/>
            <a:ext cx="540072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360600" y="3860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假說所變為現法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40000" y="4508640"/>
            <a:ext cx="576108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144600" y="4437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對此假曾有過去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484360" y="5084640"/>
            <a:ext cx="431964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106080" y="5013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而說現在為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206-4721-45FD-BA09-9A5E9A48BBD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744B0-8577-43EA-A489-F7555A28A0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唯識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三世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"/>
          <p:cNvSpPr/>
          <p:nvPr/>
        </p:nvSpPr>
        <p:spPr>
          <a:xfrm>
            <a:off x="611280" y="2492280"/>
            <a:ext cx="1152360" cy="33130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88680" y="233820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唯識三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88680" y="233820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唯識三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547640" y="1916280"/>
            <a:ext cx="1008360" cy="33130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601640" y="171576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識變三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700360" y="2708280"/>
            <a:ext cx="853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851280" y="907920"/>
            <a:ext cx="1008000" cy="5616720"/>
          </a:xfrm>
          <a:custGeom>
            <a:avLst/>
            <a:gdLst>
              <a:gd name="textAreaLeft" fmla="*/ 127080 w 1008000"/>
              <a:gd name="textAreaRight" fmla="*/ 1135440 w 1008000"/>
              <a:gd name="textAreaTop" fmla="*/ 727920 h 5616720"/>
              <a:gd name="textAreaBottom" fmla="*/ 4888800 h 5616720"/>
            </a:gdLst>
            <a:ahLst/>
            <a:rect l="textAreaLeft" t="textAreaTop" r="textAreaRight" b="textAreaBottom"/>
            <a:pathLst>
              <a:path w="21600" h="21600">
                <a:moveTo>
                  <a:pt x="2728" y="1400"/>
                </a:moveTo>
                <a:cubicBezTo>
                  <a:pt x="8564" y="-3560"/>
                  <a:pt x="15764" y="6360"/>
                  <a:pt x="21600" y="1400"/>
                </a:cubicBezTo>
                <a:lnTo>
                  <a:pt x="18872" y="20200"/>
                </a:lnTo>
                <a:cubicBezTo>
                  <a:pt x="13036" y="25160"/>
                  <a:pt x="5836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451680" y="2205000"/>
            <a:ext cx="1277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謂現識似彼相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203640" y="2133720"/>
            <a:ext cx="792000" cy="2952720"/>
          </a:xfrm>
          <a:prstGeom prst="flowChartOr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411280" y="2637000"/>
            <a:ext cx="1008360" cy="15127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43280" y="1989000"/>
            <a:ext cx="865080" cy="792360"/>
          </a:xfrm>
          <a:custGeom>
            <a:avLst/>
            <a:gdLst>
              <a:gd name="textAreaLeft" fmla="*/ 151200 w 865080"/>
              <a:gd name="textAreaRight" fmla="*/ 627120 w 865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564000" y="1197000"/>
            <a:ext cx="1008000" cy="122544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164160 h 1225440"/>
              <a:gd name="textAreaBottom" fmla="*/ 106128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559960" y="266760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識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219640" y="1197000"/>
            <a:ext cx="2592360" cy="609480"/>
          </a:xfrm>
          <a:prstGeom prst="borderCallout1">
            <a:avLst>
              <a:gd name="adj1" fmla="val 18750"/>
              <a:gd name="adj2" fmla="val -8333"/>
              <a:gd name="adj3" fmla="val 369009"/>
              <a:gd name="adj4" fmla="val -5964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967280" y="2924280"/>
            <a:ext cx="399744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844880" y="2852640"/>
            <a:ext cx="42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尋所從生→說之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398920" y="3500280"/>
            <a:ext cx="3565800" cy="64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866640" y="350028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說現為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076720" y="4149720"/>
            <a:ext cx="3888000" cy="1512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810040" y="4149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尋現世法及所生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058800" y="4581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變似未來之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736600" y="5013360"/>
            <a:ext cx="27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現名為因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未來為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643280" y="3429000"/>
            <a:ext cx="792360" cy="10098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751720" y="1197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何者為假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219640" y="2205000"/>
            <a:ext cx="3745080" cy="719280"/>
          </a:xfrm>
          <a:prstGeom prst="borderCallout1">
            <a:avLst>
              <a:gd name="adj1" fmla="val 18750"/>
              <a:gd name="adj2" fmla="val -8333"/>
              <a:gd name="adj3" fmla="val -104194"/>
              <a:gd name="adj4" fmla="val 466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487840" y="194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881320" y="2276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識緣於此現法之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3C40-462B-4C92-BC3E-43977734B9C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C4D99-6356-43E2-9ABD-2F39F7E06A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大乘緣起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正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"/>
          <p:cNvSpPr/>
          <p:nvPr/>
        </p:nvSpPr>
        <p:spPr>
          <a:xfrm>
            <a:off x="539640" y="1916280"/>
            <a:ext cx="1656000" cy="4105080"/>
          </a:xfrm>
          <a:prstGeom prst="verticalScroll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大乘緣起正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771640" y="1628640"/>
            <a:ext cx="504036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15" y="29531"/>
                </a:moveTo>
                <a:lnTo>
                  <a:pt x="-327" y="4000"/>
                </a:lnTo>
              </a:path>
              <a:path w="21600" h="21600">
                <a:moveTo>
                  <a:pt x="-327" y="0"/>
                </a:moveTo>
                <a:lnTo>
                  <a:pt x="-327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452400" y="1557360"/>
            <a:ext cx="33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有因故非常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有果故非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776680" y="2162160"/>
            <a:ext cx="503532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84" y="24638"/>
                </a:moveTo>
                <a:lnTo>
                  <a:pt x="-327" y="4000"/>
                </a:lnTo>
              </a:path>
              <a:path w="21600" h="21600">
                <a:moveTo>
                  <a:pt x="-327" y="0"/>
                </a:moveTo>
                <a:lnTo>
                  <a:pt x="-327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485520" y="2060640"/>
            <a:ext cx="27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故離二邊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契會中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572000" y="981000"/>
            <a:ext cx="396072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449680" y="981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勸諸智者應順修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771640" y="2708280"/>
            <a:ext cx="5337360" cy="609480"/>
          </a:xfrm>
          <a:prstGeom prst="borderCallout1">
            <a:avLst>
              <a:gd name="adj1" fmla="val 18750"/>
              <a:gd name="adj2" fmla="val -8333"/>
              <a:gd name="adj3" fmla="val -52083"/>
              <a:gd name="adj4" fmla="val 7007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687840" y="2708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中道者無漏真智之異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132000" y="3284640"/>
            <a:ext cx="446436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215680" y="3284640"/>
            <a:ext cx="5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以理合智→故名契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268360" y="4149720"/>
            <a:ext cx="6697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74" y="11700"/>
                </a:moveTo>
                <a:lnTo>
                  <a:pt x="-246" y="4000"/>
                </a:lnTo>
              </a:path>
              <a:path w="21600" h="21600">
                <a:moveTo>
                  <a:pt x="-246" y="0"/>
                </a:moveTo>
                <a:lnTo>
                  <a:pt x="-246" y="21600"/>
                </a:lnTo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737880" y="4076640"/>
            <a:ext cx="38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性離言→假說曾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當→名為因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627280" y="4724280"/>
            <a:ext cx="6264360" cy="505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409360" y="4653000"/>
            <a:ext cx="5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非謂實有→此即無有二邊之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276720" y="5229360"/>
            <a:ext cx="496728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173120" y="5229360"/>
            <a:ext cx="33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除遍計所執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說依他性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050920" y="5877000"/>
            <a:ext cx="604836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大乘真義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法唯現在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識變有三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763640" y="5157720"/>
            <a:ext cx="1368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492360" y="189000"/>
            <a:ext cx="540072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05" y="95850"/>
                </a:moveTo>
                <a:lnTo>
                  <a:pt x="-305" y="4000"/>
                </a:lnTo>
              </a:path>
              <a:path w="21600" h="21600">
                <a:moveTo>
                  <a:pt x="-305" y="0"/>
                </a:moveTo>
                <a:lnTo>
                  <a:pt x="-305" y="21600"/>
                </a:lnTo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375440" y="18900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有為諸法從緣而生名為緣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F6C-73CD-461F-82F7-3724E354B93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D925B-1D0F-446C-B8E4-5CC2F2B374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道理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三世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"/>
          <p:cNvSpPr/>
          <p:nvPr/>
        </p:nvSpPr>
        <p:spPr>
          <a:xfrm>
            <a:off x="826920" y="2781360"/>
            <a:ext cx="1081080" cy="309564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904680" y="248112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道理三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195640" y="1916280"/>
            <a:ext cx="6624360" cy="753840"/>
          </a:xfrm>
          <a:prstGeom prst="borderCallout1">
            <a:avLst>
              <a:gd name="adj1" fmla="val 18750"/>
              <a:gd name="adj2" fmla="val -8333"/>
              <a:gd name="adj3" fmla="val 148842"/>
              <a:gd name="adj4" fmla="val -76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844440" y="1844640"/>
            <a:ext cx="329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依種子當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曾義→說有去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來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635280" y="2565360"/>
            <a:ext cx="4824360" cy="79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389120" y="2637000"/>
            <a:ext cx="33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當有名未來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曾有名過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067280" y="3284640"/>
            <a:ext cx="2665440" cy="79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525920" y="3284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現有名現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268360" y="4437000"/>
            <a:ext cx="532476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47" y="5567"/>
                </a:moveTo>
                <a:lnTo>
                  <a:pt x="-309" y="3426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154320" y="43909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於現法上義說三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F04-B378-4D5B-BF57-E99F7107363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2911D-FA17-467F-AE30-4DF3E3DE94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神通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三世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"/>
          <p:cNvSpPr/>
          <p:nvPr/>
        </p:nvSpPr>
        <p:spPr>
          <a:xfrm>
            <a:off x="826920" y="2205000"/>
            <a:ext cx="1295640" cy="31687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047600" y="197784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神通三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411280" y="1773360"/>
            <a:ext cx="3529080" cy="752400"/>
          </a:xfrm>
          <a:prstGeom prst="borderCallout1">
            <a:avLst>
              <a:gd name="adj1" fmla="val 18750"/>
              <a:gd name="adj2" fmla="val -8333"/>
              <a:gd name="adj3" fmla="val 139453"/>
              <a:gd name="adj4" fmla="val -1439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973600" y="17431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無漏智生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987640" y="2492280"/>
            <a:ext cx="4537080" cy="6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847680" y="2492280"/>
            <a:ext cx="28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法爾皆有如此功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556000" y="3357720"/>
            <a:ext cx="4752720" cy="752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40" y="28025"/>
                </a:moveTo>
                <a:lnTo>
                  <a:pt x="-346" y="3281"/>
                </a:lnTo>
              </a:path>
              <a:path w="21600" h="21600">
                <a:moveTo>
                  <a:pt x="-346" y="0"/>
                </a:moveTo>
                <a:lnTo>
                  <a:pt x="-346" y="21600"/>
                </a:lnTo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309480" y="3284640"/>
            <a:ext cx="33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聖者功能各殊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既非妄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771640" y="3933720"/>
            <a:ext cx="4032360" cy="719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067560" y="3948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所見皆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987640" y="4581360"/>
            <a:ext cx="540072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923640" y="4508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但由智力非是妄識之所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987640" y="5084640"/>
            <a:ext cx="57610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797" y="-18900"/>
                </a:moveTo>
                <a:lnTo>
                  <a:pt x="-286" y="4000"/>
                </a:lnTo>
              </a:path>
              <a:path w="21600" h="21600">
                <a:moveTo>
                  <a:pt x="-286" y="0"/>
                </a:moveTo>
                <a:lnTo>
                  <a:pt x="-286" y="21600"/>
                </a:lnTo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086720" y="50846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理實能緣及所緣法唯在現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3FEE-2F0D-4530-AC29-64B598FF4B9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494BA-5832-46C7-912C-EB9C92D72B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觸心所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別說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略釋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3141720"/>
            <a:ext cx="1150920" cy="280836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4320" y="3383640"/>
            <a:ext cx="91152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觸心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32000" y="1197000"/>
            <a:ext cx="914400" cy="1297080"/>
          </a:xfrm>
          <a:prstGeom prst="borderCallout1">
            <a:avLst>
              <a:gd name="adj1" fmla="val 18750"/>
              <a:gd name="adj2" fmla="val -8333"/>
              <a:gd name="adj3" fmla="val 132314"/>
              <a:gd name="adj4" fmla="val -8402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2492280"/>
            <a:ext cx="914400" cy="1295640"/>
          </a:xfrm>
          <a:prstGeom prst="borderCallout1">
            <a:avLst>
              <a:gd name="adj1" fmla="val 18750"/>
              <a:gd name="adj2" fmla="val -8333"/>
              <a:gd name="adj3" fmla="val 81004"/>
              <a:gd name="adj4" fmla="val -6354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3645000"/>
            <a:ext cx="914400" cy="1439640"/>
          </a:xfrm>
          <a:prstGeom prst="borderCallout1">
            <a:avLst>
              <a:gd name="adj1" fmla="val 18750"/>
              <a:gd name="adj2" fmla="val -8333"/>
              <a:gd name="adj3" fmla="val -19625"/>
              <a:gd name="adj4" fmla="val -11909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6880" y="106416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三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65280" y="2421000"/>
            <a:ext cx="1521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分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6880" y="351216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變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1268280"/>
            <a:ext cx="504720" cy="3745080"/>
          </a:xfrm>
          <a:custGeom>
            <a:avLst/>
            <a:gdLst>
              <a:gd name="textAreaLeft" fmla="*/ 0 w 504720"/>
              <a:gd name="textAreaRight" fmla="*/ 354240 w 504720"/>
              <a:gd name="textAreaTop" fmla="*/ 155880 h 3745080"/>
              <a:gd name="textAreaBottom" fmla="*/ 358920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321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2637000"/>
            <a:ext cx="4537080" cy="115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5600" y="2162160"/>
            <a:ext cx="914400" cy="1482840"/>
          </a:xfrm>
          <a:prstGeom prst="borderCallout1">
            <a:avLst>
              <a:gd name="adj1" fmla="val 18750"/>
              <a:gd name="adj2" fmla="val -8333"/>
              <a:gd name="adj3" fmla="val 100000"/>
              <a:gd name="adj4" fmla="val -4774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4076640"/>
            <a:ext cx="914400" cy="1770120"/>
          </a:xfrm>
          <a:prstGeom prst="borderCallout1">
            <a:avLst>
              <a:gd name="adj1" fmla="val 18750"/>
              <a:gd name="adj2" fmla="val -8333"/>
              <a:gd name="adj3" fmla="val 51212"/>
              <a:gd name="adj4" fmla="val -4774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5600" y="21452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體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5600" y="416160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作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07320" y="285264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令心心所觸境為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5229360"/>
            <a:ext cx="5467320" cy="792000"/>
          </a:xfrm>
          <a:prstGeom prst="borderCallout1">
            <a:avLst>
              <a:gd name="adj1" fmla="val 18750"/>
              <a:gd name="adj2" fmla="val -8333"/>
              <a:gd name="adj3" fmla="val 32462"/>
              <a:gd name="adj4" fmla="val -1324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13400" y="5205240"/>
            <a:ext cx="38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受</a:t>
            </a: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想</a:t>
            </a: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思等所依為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59280" y="1197000"/>
            <a:ext cx="2808360" cy="1079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0" idx="0"/>
            <a:endCxn id="155" idx="1"/>
          </p:cNvCxnSpPr>
          <p:nvPr/>
        </p:nvCxnSpPr>
        <p:spPr>
          <a:xfrm flipH="1" flipV="1" rot="5400000">
            <a:off x="3182400" y="672480"/>
            <a:ext cx="613440" cy="2740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5246640" y="1197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自體行相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35720" y="1628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自取境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88000" y="4437000"/>
            <a:ext cx="3816360" cy="79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73520" y="4454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作用顯他依止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/>
          <p:nvPr/>
        </p:nvCxnSpPr>
        <p:spPr>
          <a:xfrm flipH="1" flipV="1" rot="5400000">
            <a:off x="3084120" y="3836520"/>
            <a:ext cx="801000" cy="2721600"/>
          </a:xfrm>
          <a:prstGeom prst="bentConnector4">
            <a:avLst>
              <a:gd name="adj1" fmla="val -64658"/>
              <a:gd name="adj2" fmla="val 892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099-1F0E-47FB-988F-96A93D014A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DD748-3111-44B7-9308-19E762E474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唯識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三世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"/>
          <p:cNvSpPr/>
          <p:nvPr/>
        </p:nvSpPr>
        <p:spPr>
          <a:xfrm>
            <a:off x="1042920" y="2276640"/>
            <a:ext cx="1440000" cy="324000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336320" y="212220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唯識三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771640" y="2637000"/>
            <a:ext cx="3456000" cy="1079280"/>
          </a:xfrm>
          <a:prstGeom prst="borderCallout1">
            <a:avLst>
              <a:gd name="adj1" fmla="val 18750"/>
              <a:gd name="adj2" fmla="val -8333"/>
              <a:gd name="adj3" fmla="val 23972"/>
              <a:gd name="adj4" fmla="val -3132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987640" y="2708280"/>
            <a:ext cx="32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多分分別妄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276720" y="3500280"/>
            <a:ext cx="4248000" cy="1006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132000" y="22766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203640" y="4508640"/>
            <a:ext cx="3743280" cy="1081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唯實現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002480" y="3699000"/>
            <a:ext cx="24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所變似去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來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79D-D7A9-4DD8-8032-56999AEF16B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E7FEE-3C4E-46EE-AFD6-2984D3B249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道理</a:t>
            </a: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唯識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三世之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"/>
          <p:cNvSpPr/>
          <p:nvPr/>
        </p:nvSpPr>
        <p:spPr>
          <a:xfrm>
            <a:off x="1692360" y="2060640"/>
            <a:ext cx="1368360" cy="302400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84360" y="2565360"/>
            <a:ext cx="1368360" cy="302436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904680" y="219384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唯識三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128680" y="176184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道理三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635280" y="2565360"/>
            <a:ext cx="4537080" cy="345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474440" y="3141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但說過去事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493160" y="3716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記未來諸可怖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277520" y="4221000"/>
            <a:ext cx="27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而心變作過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未之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584600" y="4724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對彼二相說名現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617360" y="5300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即是唯識三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4" name=""/>
          <p:cNvCxnSpPr>
            <a:endCxn id="1138" idx="1"/>
          </p:cNvCxnSpPr>
          <p:nvPr/>
        </p:nvCxnSpPr>
        <p:spPr>
          <a:xfrm flipV="1">
            <a:off x="1332000" y="4293360"/>
            <a:ext cx="2304000" cy="972360"/>
          </a:xfrm>
          <a:prstGeom prst="bentConnector3">
            <a:avLst>
              <a:gd name="adj1" fmla="val 8854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5" name=""/>
          <p:cNvSpPr/>
          <p:nvPr/>
        </p:nvSpPr>
        <p:spPr>
          <a:xfrm>
            <a:off x="4929480" y="2565360"/>
            <a:ext cx="177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尋因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果相→酬引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276720" y="1700280"/>
            <a:ext cx="561636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67" y="19350"/>
                </a:moveTo>
                <a:lnTo>
                  <a:pt x="-293" y="400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974760" y="1700280"/>
            <a:ext cx="42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依種子曾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當義→說有去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來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7D07-625D-4F0E-8800-09A87EB99D1A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DE5A4-4F50-473D-BABE-B8DA365956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總說賴耶因果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"/>
          <p:cNvSpPr/>
          <p:nvPr/>
        </p:nvSpPr>
        <p:spPr>
          <a:xfrm>
            <a:off x="2627280" y="2349360"/>
            <a:ext cx="3384720" cy="345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788000" y="3357720"/>
            <a:ext cx="1295280" cy="9363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心種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300720" y="3573360"/>
            <a:ext cx="1511280" cy="1008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628320" y="3500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現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503760" y="3860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七轉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508720" y="119700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432032"/>
              <a:gd name="adj4" fmla="val -2970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784840" y="112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因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7524720" y="2492280"/>
            <a:ext cx="1079640" cy="649440"/>
          </a:xfrm>
          <a:prstGeom prst="borderCallout1">
            <a:avLst>
              <a:gd name="adj1" fmla="val 18750"/>
              <a:gd name="adj2" fmla="val -8333"/>
              <a:gd name="adj3" fmla="val 259657"/>
              <a:gd name="adj4" fmla="val -4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037320" y="3573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賴耶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2"/>
          <a:stretch/>
        </p:blipFill>
        <p:spPr>
          <a:xfrm>
            <a:off x="6804000" y="47628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1160" name=""/>
          <p:cNvSpPr/>
          <p:nvPr/>
        </p:nvSpPr>
        <p:spPr>
          <a:xfrm>
            <a:off x="4140360" y="4292640"/>
            <a:ext cx="1655640" cy="8650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251600" y="4365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心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076720" y="4365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219640" y="2852640"/>
            <a:ext cx="2089080" cy="792360"/>
          </a:xfrm>
          <a:custGeom>
            <a:avLst/>
            <a:gdLst>
              <a:gd name="textAreaLeft" fmla="*/ 365400 w 2089080"/>
              <a:gd name="textAreaRight" fmla="*/ 1514520 w 2089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rot="10800000">
            <a:off x="5292360" y="4508280"/>
            <a:ext cx="1800360" cy="1081080"/>
          </a:xfrm>
          <a:custGeom>
            <a:avLst/>
            <a:gdLst>
              <a:gd name="textAreaLeft" fmla="*/ 315000 w 1800360"/>
              <a:gd name="textAreaRight" fmla="*/ 1305360 w 1800360"/>
              <a:gd name="textAreaTop" fmla="*/ 144720 h 1081080"/>
              <a:gd name="textAreaBottom" fmla="*/ 936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524720" y="5229360"/>
            <a:ext cx="12240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66" y="-36788"/>
                </a:moveTo>
                <a:lnTo>
                  <a:pt x="-1345" y="4000"/>
                </a:lnTo>
              </a:path>
              <a:path w="21600" h="21600">
                <a:moveTo>
                  <a:pt x="-1345" y="0"/>
                </a:moveTo>
                <a:lnTo>
                  <a:pt x="-1345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801200" y="5157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因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292720" y="566100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900" y="-29081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353200" y="558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果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451640" y="242100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果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door"/>
          <p:cNvSpPr/>
          <p:nvPr/>
        </p:nvSpPr>
        <p:spPr>
          <a:xfrm>
            <a:off x="4067280" y="2276640"/>
            <a:ext cx="977760" cy="16254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door"/>
          <p:cNvSpPr/>
          <p:nvPr/>
        </p:nvSpPr>
        <p:spPr>
          <a:xfrm rot="15059400">
            <a:off x="2850840" y="3764880"/>
            <a:ext cx="863640" cy="19843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924360" y="1557360"/>
            <a:ext cx="863640" cy="7207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835280" y="5084640"/>
            <a:ext cx="720720" cy="7207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55640" y="1844640"/>
            <a:ext cx="1635120" cy="28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4015" y="11669"/>
                </a:moveTo>
                <a:lnTo>
                  <a:pt x="22607" y="857"/>
                </a:lnTo>
              </a:path>
              <a:path w="21600" h="21600">
                <a:moveTo>
                  <a:pt x="22607" y="0"/>
                </a:moveTo>
                <a:lnTo>
                  <a:pt x="22607" y="21600"/>
                </a:lnTo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831600" y="158292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賴耶因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263240" y="208764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斷不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696680" y="230364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喻瀑流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364000" y="6281640"/>
            <a:ext cx="863640" cy="3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非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651640" y="1773360"/>
            <a:ext cx="115236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不恆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740720" y="5805360"/>
            <a:ext cx="1079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非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667640" y="3068640"/>
            <a:ext cx="1224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後法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50920" y="5084640"/>
            <a:ext cx="1131840" cy="100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054" y="-19151"/>
                </a:moveTo>
                <a:lnTo>
                  <a:pt x="23054" y="2449"/>
                </a:lnTo>
              </a:path>
              <a:path w="21600" h="21600">
                <a:moveTo>
                  <a:pt x="23054" y="0"/>
                </a:moveTo>
                <a:lnTo>
                  <a:pt x="23054" y="21600"/>
                </a:lnTo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08320" y="544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中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63960" y="508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緣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145-B5C1-442E-8273-E28AA7A5670D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D63A4-7CBC-4CEB-924B-09F4290173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賴耶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伏斷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7" name=""/>
          <p:cNvSpPr/>
          <p:nvPr/>
        </p:nvSpPr>
        <p:spPr>
          <a:xfrm>
            <a:off x="468360" y="1700280"/>
            <a:ext cx="2016000" cy="4321080"/>
          </a:xfrm>
          <a:prstGeom prst="wedgeRectCallout">
            <a:avLst>
              <a:gd name="adj1" fmla="val -41731"/>
              <a:gd name="adj2" fmla="val 5731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15240" y="1292040"/>
            <a:ext cx="78984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此賴耶識無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191240" y="110808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恆轉如流乃至何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697760" y="176976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當究竟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627280" y="2997360"/>
            <a:ext cx="914400" cy="19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000" y="1270"/>
                </a:moveTo>
                <a:lnTo>
                  <a:pt x="-1800" y="127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631240" y="324396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總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348000" y="1844640"/>
            <a:ext cx="1008000" cy="41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423240" y="110808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阿羅漢位方究竟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356000" y="1773360"/>
            <a:ext cx="914400" cy="227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838" y="18570"/>
                </a:moveTo>
                <a:lnTo>
                  <a:pt x="-1800" y="1085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431600" y="209160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別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219640" y="1700280"/>
            <a:ext cx="3529080" cy="1655640"/>
          </a:xfrm>
          <a:prstGeom prst="borderCallout1">
            <a:avLst>
              <a:gd name="adj1" fmla="val 18750"/>
              <a:gd name="adj2" fmla="val -8333"/>
              <a:gd name="adj3" fmla="val 48611"/>
              <a:gd name="adj4" fmla="val -86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820840" y="1700280"/>
            <a:ext cx="24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諸聖者斷煩惱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731560" y="220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究竟盡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546960" y="27082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名「阿羅漢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003640" y="3357720"/>
            <a:ext cx="3672000" cy="1655640"/>
          </a:xfrm>
          <a:prstGeom prst="borderCallout1">
            <a:avLst>
              <a:gd name="adj1" fmla="val 18750"/>
              <a:gd name="adj2" fmla="val -8333"/>
              <a:gd name="adj3" fmla="val -7671"/>
              <a:gd name="adj4" fmla="val -782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835600" y="3284640"/>
            <a:ext cx="16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爾時此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665680" y="378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煩惱麤重永遠離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130440" y="4221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說之為「捨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067280" y="1268280"/>
            <a:ext cx="482580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061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諸聖者通三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3492360" y="620640"/>
            <a:ext cx="5400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470120" y="620640"/>
            <a:ext cx="36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斷煩惱障究竟盡者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永斷或伏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932360" y="4797360"/>
            <a:ext cx="37450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665680" y="4724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此中唯依斷煩惱障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984920" y="5396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546520" y="515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名阿羅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4500720" y="5661000"/>
            <a:ext cx="381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害煩惱賊故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非是縛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124000" y="6165720"/>
            <a:ext cx="5904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依除分段生死以名無生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非所知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CA8A-5083-47C8-B78C-9B433F94A3B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1F6A8-0932-4180-96F3-58990C9DCF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捨</a:t>
            </a: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略釋</a:t>
            </a: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"/>
          <p:cNvSpPr/>
          <p:nvPr/>
        </p:nvSpPr>
        <p:spPr>
          <a:xfrm>
            <a:off x="250920" y="2708280"/>
            <a:ext cx="1008000" cy="2736720"/>
          </a:xfrm>
          <a:prstGeom prst="verticalScroll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403280" y="1700280"/>
            <a:ext cx="914400" cy="172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13" y="19438"/>
                </a:moveTo>
                <a:lnTo>
                  <a:pt x="-1800" y="1428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403280" y="4149720"/>
            <a:ext cx="914400" cy="187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88" y="5460"/>
                </a:moveTo>
                <a:lnTo>
                  <a:pt x="-1800" y="546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479600" y="1394280"/>
            <a:ext cx="8506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永斷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479600" y="3843720"/>
            <a:ext cx="8506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伏斷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484360" y="1916280"/>
            <a:ext cx="6048360" cy="1152360"/>
          </a:xfrm>
          <a:prstGeom prst="borderCallout1">
            <a:avLst>
              <a:gd name="adj1" fmla="val 18750"/>
              <a:gd name="adj2" fmla="val -8333"/>
              <a:gd name="adj3" fmla="val 22453"/>
              <a:gd name="adj4" fmla="val -603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411280" y="1844640"/>
            <a:ext cx="53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永害隨眠皆在金剛心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564000" y="2349360"/>
            <a:ext cx="38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斷已皆成阿羅漢果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三乘皆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484360" y="3284640"/>
            <a:ext cx="6264360" cy="165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726" y="7510"/>
                </a:moveTo>
                <a:lnTo>
                  <a:pt x="-263" y="1490"/>
                </a:lnTo>
              </a:path>
              <a:path w="21600" h="21600">
                <a:moveTo>
                  <a:pt x="-263" y="0"/>
                </a:moveTo>
                <a:lnTo>
                  <a:pt x="-263" y="21600"/>
                </a:lnTo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556000" y="3284640"/>
            <a:ext cx="56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捨相如何？此識中煩惱麤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420000" y="3716280"/>
            <a:ext cx="45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永遠離故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說之為捨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非識體亦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288960" y="4221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麤重言顯煩惱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411280" y="5157720"/>
            <a:ext cx="5469120" cy="1224000"/>
          </a:xfrm>
          <a:prstGeom prst="borderCallout1">
            <a:avLst>
              <a:gd name="adj1" fmla="val 18750"/>
              <a:gd name="adj2" fmla="val -8333"/>
              <a:gd name="adj3" fmla="val 9337"/>
              <a:gd name="adj4" fmla="val -667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452400" y="5157720"/>
            <a:ext cx="33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若伏斷永不起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言斷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159000" y="5661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通八地已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16F-624B-4F06-BFBA-4D083C79A2B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EE207-EE01-4449-AA06-63F278A346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捨</a:t>
            </a: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略釋</a:t>
            </a: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4" name=""/>
          <p:cNvSpPr/>
          <p:nvPr/>
        </p:nvSpPr>
        <p:spPr>
          <a:xfrm>
            <a:off x="468360" y="2708280"/>
            <a:ext cx="1079280" cy="2952720"/>
          </a:xfrm>
          <a:prstGeom prst="verticalScroll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1476360" y="3645000"/>
            <a:ext cx="914400" cy="2376360"/>
          </a:xfrm>
          <a:prstGeom prst="borderCallout1">
            <a:avLst>
              <a:gd name="adj1" fmla="val 18750"/>
              <a:gd name="adj2" fmla="val -8333"/>
              <a:gd name="adj3" fmla="val 4810"/>
              <a:gd name="adj4" fmla="val -3194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551600" y="349200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捨相云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35280" y="1916280"/>
            <a:ext cx="662436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76" y="67838"/>
                </a:moveTo>
                <a:lnTo>
                  <a:pt x="-248" y="4000"/>
                </a:lnTo>
              </a:path>
              <a:path w="21600" h="21600">
                <a:moveTo>
                  <a:pt x="-248" y="0"/>
                </a:moveTo>
                <a:lnTo>
                  <a:pt x="-248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463120" y="1844640"/>
            <a:ext cx="51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今位取種子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非餘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現行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堪受性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843280" y="2492280"/>
            <a:ext cx="5543640" cy="1441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773880" y="2351160"/>
            <a:ext cx="30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由種子斷時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現行執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865320" y="2781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發潤之惑皆不起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770080" y="3213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說名為「捨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780000" y="3860640"/>
            <a:ext cx="4392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584600" y="378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執藏名唯約縛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4637880" y="4221000"/>
            <a:ext cx="27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法執非縛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故不說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843280" y="5013360"/>
            <a:ext cx="496404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521" y="7527"/>
                </a:moveTo>
                <a:lnTo>
                  <a:pt x="-332" y="2142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720960" y="4941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又畢竟無現行麤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721320" y="5373720"/>
            <a:ext cx="30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亦說為「捨」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通八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916360" y="6021360"/>
            <a:ext cx="4680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若說「習氣」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四位不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2349360"/>
            <a:ext cx="647640" cy="5763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556000" y="4724280"/>
            <a:ext cx="720720" cy="7207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04F-C9FF-4703-9D97-7314ED64324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A7D4D-421C-4512-A77E-B9AD7D66C7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習氣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四位不成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4" name=""/>
          <p:cNvSpPr/>
          <p:nvPr/>
        </p:nvSpPr>
        <p:spPr>
          <a:xfrm>
            <a:off x="468360" y="1989000"/>
            <a:ext cx="1582560" cy="403236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43240" y="172620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若說習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046520" y="258984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四位不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79280" y="5013360"/>
            <a:ext cx="936720" cy="1008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79640" y="1700280"/>
            <a:ext cx="691344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62" y="11514"/>
                </a:moveTo>
                <a:lnTo>
                  <a:pt x="-238" y="3117"/>
                </a:lnTo>
              </a:path>
              <a:path w="21600" h="21600">
                <a:moveTo>
                  <a:pt x="-238" y="0"/>
                </a:moveTo>
                <a:lnTo>
                  <a:pt x="-238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129480" y="1628640"/>
            <a:ext cx="457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四位：三乘無學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八地以上菩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08000" y="2421000"/>
            <a:ext cx="64090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3" y="24469"/>
                </a:moveTo>
                <a:lnTo>
                  <a:pt x="-257" y="4000"/>
                </a:lnTo>
              </a:path>
              <a:path w="21600" h="21600">
                <a:moveTo>
                  <a:pt x="-257" y="0"/>
                </a:moveTo>
                <a:lnTo>
                  <a:pt x="-257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200400" y="23493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不得言「賴耶名四位捨」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195640" y="2997360"/>
            <a:ext cx="5182920" cy="122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2924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通三乘師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380400" y="33577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即粗取現行粗重為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340000" y="3933720"/>
            <a:ext cx="525636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3471840" y="3860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若以永離無堪任性麤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687840" y="43657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方名捨賴耶即四位不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411280" y="5013360"/>
            <a:ext cx="64818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551760" y="5013360"/>
            <a:ext cx="41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若二乘無學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不退皆未永離無堪任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268360" y="5589720"/>
            <a:ext cx="59058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927240" y="5516640"/>
            <a:ext cx="16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即應一位無賴耶名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唯如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6093000"/>
            <a:ext cx="6048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約種名習氣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不通八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B67-3395-4F73-A8D5-FF8CB739477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D8BCB-9841-4A1D-BBB6-9B0C8608AE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阿羅漢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名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廣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"/>
          <p:cNvSpPr/>
          <p:nvPr/>
        </p:nvSpPr>
        <p:spPr>
          <a:xfrm>
            <a:off x="684360" y="2565360"/>
            <a:ext cx="1079280" cy="3168720"/>
          </a:xfrm>
          <a:prstGeom prst="verticalScroll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阿羅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835280" y="1700280"/>
            <a:ext cx="720720" cy="12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1743" y="23617"/>
                </a:moveTo>
                <a:lnTo>
                  <a:pt x="-2284" y="2017"/>
                </a:lnTo>
              </a:path>
              <a:path w="21600" h="21600">
                <a:moveTo>
                  <a:pt x="-2284" y="0"/>
                </a:moveTo>
                <a:lnTo>
                  <a:pt x="-2284" y="21600"/>
                </a:lnTo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835280" y="3213000"/>
            <a:ext cx="57600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364" y="14308"/>
                </a:moveTo>
                <a:lnTo>
                  <a:pt x="-2856" y="1804"/>
                </a:lnTo>
              </a:path>
              <a:path w="21600" h="21600">
                <a:moveTo>
                  <a:pt x="-2856" y="0"/>
                </a:moveTo>
                <a:lnTo>
                  <a:pt x="-2856" y="21600"/>
                </a:lnTo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835280" y="4724280"/>
            <a:ext cx="649080" cy="144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00" y="8183"/>
                </a:moveTo>
                <a:lnTo>
                  <a:pt x="-2535" y="1713"/>
                </a:lnTo>
              </a:path>
              <a:path w="21600" h="21600">
                <a:moveTo>
                  <a:pt x="-2535" y="0"/>
                </a:moveTo>
                <a:lnTo>
                  <a:pt x="-2535" y="21600"/>
                </a:lnTo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229760" y="1773360"/>
            <a:ext cx="13993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殺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767600" y="309960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應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1769040" y="478224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無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27280" y="2133720"/>
            <a:ext cx="863640" cy="3743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3" name=""/>
          <p:cNvCxnSpPr>
            <a:endCxn id="1284" idx="2"/>
          </p:cNvCxnSpPr>
          <p:nvPr/>
        </p:nvCxnSpPr>
        <p:spPr>
          <a:xfrm>
            <a:off x="1258920" y="5733720"/>
            <a:ext cx="1766160" cy="119880"/>
          </a:xfrm>
          <a:prstGeom prst="bentConnector4">
            <a:avLst>
              <a:gd name="adj1" fmla="val 13577"/>
              <a:gd name="adj2" fmla="val 48373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84" name=""/>
          <p:cNvSpPr/>
          <p:nvPr/>
        </p:nvSpPr>
        <p:spPr>
          <a:xfrm>
            <a:off x="2631240" y="1560240"/>
            <a:ext cx="78984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通三乘無學果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419640" y="1773360"/>
            <a:ext cx="295272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837960" y="1773360"/>
            <a:ext cx="19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應斷煩惱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419640" y="3213000"/>
            <a:ext cx="208908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419640" y="3141720"/>
            <a:ext cx="19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應受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419640" y="4508640"/>
            <a:ext cx="374472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020840" y="4437000"/>
            <a:ext cx="24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應不復受分段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4427640" y="189000"/>
            <a:ext cx="2376360" cy="187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863600" y="15444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阿羅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5439960" y="15444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正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944680" y="1089000"/>
            <a:ext cx="7290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「應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164360" y="260280"/>
            <a:ext cx="1081080" cy="609840"/>
          </a:xfrm>
          <a:prstGeom prst="borderCallout1">
            <a:avLst>
              <a:gd name="adj1" fmla="val 18750"/>
              <a:gd name="adj2" fmla="val -8333"/>
              <a:gd name="adj3" fmla="val 101300"/>
              <a:gd name="adj4" fmla="val -6079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契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300720" y="1916280"/>
            <a:ext cx="187344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23560" y="184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非所知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780000" y="2421000"/>
            <a:ext cx="475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431600" y="2421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所知障體不障解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724360" y="2997360"/>
            <a:ext cx="3095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651640" y="2997360"/>
            <a:ext cx="30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無能發業潤生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708360" y="3789360"/>
            <a:ext cx="367200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279680" y="3789360"/>
            <a:ext cx="24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餘位未滿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非可供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780000" y="5084640"/>
            <a:ext cx="3528720" cy="505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340520" y="5013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不言離變異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067280" y="5589720"/>
            <a:ext cx="3457440" cy="50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791960" y="5516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二乘無學有變異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132000" y="6093000"/>
            <a:ext cx="496908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132000" y="602136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已離繫縛得解脫故無分段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AB1-BF63-40EA-B84E-997C9C9BF3A4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814B8-F19E-4D25-8708-E2C747F59E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阿羅漢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名通三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"/>
          <p:cNvSpPr/>
          <p:nvPr/>
        </p:nvSpPr>
        <p:spPr>
          <a:xfrm>
            <a:off x="250920" y="1844640"/>
            <a:ext cx="1439640" cy="3600360"/>
          </a:xfrm>
          <a:prstGeom prst="wedgeRectCallout">
            <a:avLst>
              <a:gd name="adj1" fmla="val -44375"/>
              <a:gd name="adj2" fmla="val 6878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27600" y="1271520"/>
            <a:ext cx="78984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阿羅漢號通三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759600" y="152820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云何知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547640" y="1773360"/>
            <a:ext cx="1440000" cy="4176720"/>
          </a:xfrm>
          <a:prstGeom prst="wedgeRectCallout">
            <a:avLst>
              <a:gd name="adj1" fmla="val -49009"/>
              <a:gd name="adj2" fmla="val 6132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623240" y="1507680"/>
            <a:ext cx="78984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三乘無學通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2199600" y="110808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通名阿羅漢之所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987640" y="1989000"/>
            <a:ext cx="1800360" cy="3814920"/>
          </a:xfrm>
          <a:prstGeom prst="wedgeRectCallout">
            <a:avLst>
              <a:gd name="adj1" fmla="val -44708"/>
              <a:gd name="adj2" fmla="val 6510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991600" y="1335240"/>
            <a:ext cx="7898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諸阿羅漢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獨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496320" y="1839240"/>
            <a:ext cx="789840" cy="36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如來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何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928320" y="1415880"/>
            <a:ext cx="78984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能證同是阿羅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4788000" y="836640"/>
            <a:ext cx="1368360" cy="4392720"/>
          </a:xfrm>
          <a:prstGeom prst="wedgeRectCallout">
            <a:avLst>
              <a:gd name="adj1" fmla="val 15199"/>
              <a:gd name="adj2" fmla="val 6998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791960" y="263160"/>
            <a:ext cx="78984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何知此阿賴耶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5296680" y="210456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三乘皆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6161040" y="692280"/>
            <a:ext cx="1795680" cy="529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17" y="466"/>
                </a:moveTo>
                <a:lnTo>
                  <a:pt x="-917" y="466"/>
                </a:lnTo>
              </a:path>
              <a:path w="21600" h="21600">
                <a:moveTo>
                  <a:pt x="-917" y="0"/>
                </a:moveTo>
                <a:lnTo>
                  <a:pt x="-917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6160680" y="2838960"/>
            <a:ext cx="72900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《瑜伽‧決擇分》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663960" y="278280"/>
            <a:ext cx="729000" cy="58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諸阿羅漢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獨覺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如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168680" y="39852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皆不成就阿賴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6372360" y="5229360"/>
            <a:ext cx="1079280" cy="13683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305040" y="5505480"/>
            <a:ext cx="7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736320" y="507708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通三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7812000" y="404640"/>
            <a:ext cx="1079640" cy="590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815960" y="3133800"/>
            <a:ext cx="6678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《集論》復說若諸菩薩得菩提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8247600" y="-924480"/>
            <a:ext cx="667800" cy="84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頓斷煩惱及所知障成阿羅漢及如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5CB-2022-4AC9-B6A7-33750278B417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AE052-1346-48B4-8963-891A7F4906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賴耶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轉識四句分別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6" name=""/>
          <p:cNvSpPr/>
          <p:nvPr/>
        </p:nvSpPr>
        <p:spPr>
          <a:xfrm>
            <a:off x="1403280" y="2276640"/>
            <a:ext cx="6121440" cy="3384360"/>
          </a:xfrm>
          <a:prstGeom prst="flowChartOr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717640" y="270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成轉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807080" y="263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成賴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807080" y="3213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非轉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646360" y="3213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非賴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862360" y="400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成賴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603520" y="4437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亦成轉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051160" y="4005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不成賴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835520" y="4508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不成轉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50920" y="1773360"/>
            <a:ext cx="4105080" cy="1008000"/>
          </a:xfrm>
          <a:prstGeom prst="borderCallout1">
            <a:avLst>
              <a:gd name="adj1" fmla="val 18750"/>
              <a:gd name="adj2" fmla="val -8333"/>
              <a:gd name="adj3" fmla="val 140000"/>
              <a:gd name="adj4" fmla="val 4914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0920" y="1700280"/>
            <a:ext cx="40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三乘無學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退菩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854280" y="2133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入無心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79280" y="5157720"/>
            <a:ext cx="4032360" cy="1008000"/>
          </a:xfrm>
          <a:prstGeom prst="borderCallout1">
            <a:avLst>
              <a:gd name="adj1" fmla="val 18750"/>
              <a:gd name="adj2" fmla="val -8333"/>
              <a:gd name="adj3" fmla="val -10078"/>
              <a:gd name="adj4" fmla="val 7413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859280" y="1700280"/>
            <a:ext cx="3960720" cy="906480"/>
          </a:xfrm>
          <a:prstGeom prst="borderCallout1">
            <a:avLst>
              <a:gd name="adj1" fmla="val 18750"/>
              <a:gd name="adj2" fmla="val -8333"/>
              <a:gd name="adj3" fmla="val 92120"/>
              <a:gd name="adj4" fmla="val -192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5501520" y="1628640"/>
            <a:ext cx="27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七地以前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二乘有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461280" y="1989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一切異生入無心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42240" y="5013360"/>
            <a:ext cx="27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七地以前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二乘有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0" y="5516640"/>
            <a:ext cx="42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一切異生不入無心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076720" y="5157720"/>
            <a:ext cx="3816360" cy="927000"/>
          </a:xfrm>
          <a:prstGeom prst="borderCallout1">
            <a:avLst>
              <a:gd name="adj1" fmla="val 18750"/>
              <a:gd name="adj2" fmla="val -8333"/>
              <a:gd name="adj3" fmla="val 7703"/>
              <a:gd name="adj4" fmla="val -578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574600" y="5084640"/>
            <a:ext cx="27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三乘無學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退菩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660280" y="551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入無心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79280" y="6093000"/>
            <a:ext cx="2880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餘有情住有心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500720" y="6093000"/>
            <a:ext cx="44654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入滅盡定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處無餘依涅槃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79E-45DD-44E0-A622-E03E3F255B03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E21C1-A882-41E6-83D0-C453D9A7A1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觸心所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廣釋三和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068640"/>
            <a:ext cx="1366920" cy="31687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8680" y="3456720"/>
            <a:ext cx="91152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觸心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1773360"/>
            <a:ext cx="914400" cy="1224000"/>
          </a:xfrm>
          <a:prstGeom prst="borderCallout1">
            <a:avLst>
              <a:gd name="adj1" fmla="val 18750"/>
              <a:gd name="adj2" fmla="val -8333"/>
              <a:gd name="adj3" fmla="val 126069"/>
              <a:gd name="adj4" fmla="val -7916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79640" y="3357720"/>
            <a:ext cx="720720" cy="1223640"/>
          </a:xfrm>
          <a:prstGeom prst="borderCallout1">
            <a:avLst>
              <a:gd name="adj1" fmla="val 18750"/>
              <a:gd name="adj2" fmla="val -8333"/>
              <a:gd name="adj3" fmla="val 79898"/>
              <a:gd name="adj4" fmla="val -6057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4000" y="5300640"/>
            <a:ext cx="719280" cy="1152720"/>
          </a:xfrm>
          <a:prstGeom prst="borderCallout1">
            <a:avLst>
              <a:gd name="adj1" fmla="val 18750"/>
              <a:gd name="adj2" fmla="val -8333"/>
              <a:gd name="adj3" fmla="val 41185"/>
              <a:gd name="adj4" fmla="val -90509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8880" y="15692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三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41280" y="3357720"/>
            <a:ext cx="15210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分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27600" y="509652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變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19640" y="1844640"/>
            <a:ext cx="1584000" cy="1368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11640" y="1052640"/>
            <a:ext cx="1584360" cy="1726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2205000"/>
            <a:ext cx="1584360" cy="1079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1916280"/>
            <a:ext cx="935280" cy="10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9960" y="2192400"/>
            <a:ext cx="7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7960" y="1257480"/>
            <a:ext cx="7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23960" y="2408400"/>
            <a:ext cx="7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16360" y="2492280"/>
            <a:ext cx="172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333360"/>
            <a:ext cx="3382920" cy="609480"/>
          </a:xfrm>
          <a:prstGeom prst="borderCallout1">
            <a:avLst>
              <a:gd name="adj1" fmla="val 18750"/>
              <a:gd name="adj2" fmla="val -8333"/>
              <a:gd name="adj3" fmla="val 254949"/>
              <a:gd name="adj4" fmla="val -6400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33336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根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境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識體異名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907920"/>
            <a:ext cx="2808360" cy="6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907920"/>
            <a:ext cx="25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三體不乖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1557360"/>
            <a:ext cx="24476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27600" y="1557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更相交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44000" y="981000"/>
            <a:ext cx="576000" cy="1295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177040" y="95832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隨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43640" y="2349360"/>
            <a:ext cx="2011320" cy="609840"/>
          </a:xfrm>
          <a:prstGeom prst="borderCallout1">
            <a:avLst>
              <a:gd name="adj1" fmla="val 18750"/>
              <a:gd name="adj2" fmla="val -8333"/>
              <a:gd name="adj3" fmla="val -179166"/>
              <a:gd name="adj4" fmla="val -1838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89160" y="227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識不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2852640"/>
            <a:ext cx="172728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0" y="285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根境或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3933720"/>
            <a:ext cx="5977080" cy="609840"/>
          </a:xfrm>
          <a:prstGeom prst="borderCallout1">
            <a:avLst>
              <a:gd name="adj1" fmla="val 18750"/>
              <a:gd name="adj2" fmla="val -8333"/>
              <a:gd name="adj3" fmla="val -187240"/>
              <a:gd name="adj4" fmla="val -467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17080" y="2421000"/>
            <a:ext cx="576000" cy="1008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47600" y="234288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乖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71640" y="4005360"/>
            <a:ext cx="694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耳根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眼識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香境乖返相違不名三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16360" y="4581360"/>
            <a:ext cx="5832360" cy="129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66600" y="4581360"/>
            <a:ext cx="27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根可為依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境可為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16360" y="508464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識二所生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可依於根而取於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00720" y="5805360"/>
            <a:ext cx="3743280" cy="609840"/>
          </a:xfrm>
          <a:prstGeom prst="borderCallout1">
            <a:avLst>
              <a:gd name="adj1" fmla="val 18750"/>
              <a:gd name="adj2" fmla="val -8333"/>
              <a:gd name="adj3" fmla="val -99740"/>
              <a:gd name="adj4" fmla="val -534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89320" y="57340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如此交涉名三和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6360" y="2708280"/>
            <a:ext cx="718920" cy="22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3357720"/>
            <a:ext cx="3240000" cy="576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依彼生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令彼和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16360" y="2708280"/>
            <a:ext cx="71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059-45DC-4AEF-8FB6-1E611A37AE5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D01CF-859A-45E5-9760-37B8EBE0E2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阿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羅漢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1" name=""/>
          <p:cNvSpPr/>
          <p:nvPr/>
        </p:nvSpPr>
        <p:spPr>
          <a:xfrm>
            <a:off x="395280" y="2565360"/>
            <a:ext cx="1150920" cy="3384720"/>
          </a:xfrm>
          <a:prstGeom prst="verticalScroll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阿羅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03280" y="3068640"/>
            <a:ext cx="792360" cy="3456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36560" y="3141720"/>
            <a:ext cx="1521000" cy="35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佛亦名阿羅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411280" y="2276640"/>
            <a:ext cx="1729080" cy="38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552" y="6066"/>
                </a:moveTo>
                <a:lnTo>
                  <a:pt x="-952" y="635"/>
                </a:lnTo>
              </a:path>
              <a:path w="21600" h="21600">
                <a:moveTo>
                  <a:pt x="-952" y="0"/>
                </a:moveTo>
                <a:lnTo>
                  <a:pt x="-952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288880" y="2019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菩薩得菩提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776320" y="1611000"/>
            <a:ext cx="7290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頓斷煩惱及所知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296880" y="186372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成阿羅漢及如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3995640" y="1125360"/>
            <a:ext cx="720720" cy="532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071600" y="210600"/>
            <a:ext cx="729000" cy="69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佛亦由斷所知障亦名如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788000" y="189000"/>
            <a:ext cx="1873080" cy="6264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792320" y="-592920"/>
            <a:ext cx="72900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十地菩薩不能少斷俱生煩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297040" y="-272160"/>
            <a:ext cx="7290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金剛喻定時方頓斷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800320" y="327960"/>
            <a:ext cx="7290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一者故留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二者不障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6516720" y="189000"/>
            <a:ext cx="1800360" cy="6119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592680" y="-448200"/>
            <a:ext cx="72900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退菩薩雖不起現我愛執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7168680" y="-846000"/>
            <a:ext cx="729000" cy="83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暫時伏離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種猶有故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未名為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7600680" y="-453240"/>
            <a:ext cx="72900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三乘無學我愛種盡乃名為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「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捨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364000" y="4508640"/>
            <a:ext cx="1370160" cy="2205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367960" y="482832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依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99960" y="413964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煩惱種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C56-E640-44E1-8D60-826670486FD8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D344F-C594-40D9-B0A0-8B91273FDF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賴耶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捨「名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3" name=""/>
          <p:cNvSpPr/>
          <p:nvPr/>
        </p:nvSpPr>
        <p:spPr>
          <a:xfrm>
            <a:off x="179280" y="1989000"/>
            <a:ext cx="1728720" cy="4249800"/>
          </a:xfrm>
          <a:prstGeom prst="verticalScroll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捨「賴耶」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771640" y="1773360"/>
            <a:ext cx="1871640" cy="4537080"/>
          </a:xfrm>
          <a:prstGeom prst="wedgeRectCallout">
            <a:avLst>
              <a:gd name="adj1" fmla="val -32699"/>
              <a:gd name="adj2" fmla="val 490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2847600" y="2802600"/>
            <a:ext cx="72900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〈決擇分〉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3352320" y="1179360"/>
            <a:ext cx="7290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退菩薩亦不成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855600" y="22320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阿賴耶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763640" y="587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132000" y="5516640"/>
            <a:ext cx="1152720" cy="1008000"/>
          </a:xfrm>
          <a:prstGeom prst="irregularSeal2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?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1692360" y="2421000"/>
            <a:ext cx="792000" cy="2881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1148040" y="2421000"/>
            <a:ext cx="127764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依斷煩惱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476360" y="4797360"/>
            <a:ext cx="863640" cy="1008000"/>
          </a:xfrm>
          <a:prstGeom prst="irregularSeal1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4572000" y="333360"/>
            <a:ext cx="792000" cy="597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4099320" y="476280"/>
            <a:ext cx="127764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菩薩煩惱種子未除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如何名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292720" y="3068640"/>
            <a:ext cx="720720" cy="32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5297040" y="4303440"/>
            <a:ext cx="72900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違《集論》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300720" y="476280"/>
            <a:ext cx="1693800" cy="547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2613" y="7004"/>
                </a:moveTo>
                <a:lnTo>
                  <a:pt x="-972" y="451"/>
                </a:lnTo>
              </a:path>
              <a:path w="21600" h="21600">
                <a:moveTo>
                  <a:pt x="-972" y="0"/>
                </a:moveTo>
                <a:lnTo>
                  <a:pt x="-972" y="21600"/>
                </a:lnTo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846120" y="885960"/>
            <a:ext cx="515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EF7-FD6E-47FE-82BD-D27052BC780B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F2826-1CD0-47BF-BDAC-8EB44625B9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總釋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不退菩薩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"/>
          <p:cNvSpPr/>
          <p:nvPr/>
        </p:nvSpPr>
        <p:spPr>
          <a:xfrm>
            <a:off x="324000" y="2276640"/>
            <a:ext cx="1368360" cy="3384360"/>
          </a:xfrm>
          <a:prstGeom prst="verticalScroll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不退菩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08000" y="1700280"/>
            <a:ext cx="792360" cy="187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852" y="11294"/>
                </a:moveTo>
                <a:lnTo>
                  <a:pt x="-2078" y="1318"/>
                </a:lnTo>
              </a:path>
              <a:path w="21600" h="21600">
                <a:moveTo>
                  <a:pt x="-2078" y="0"/>
                </a:moveTo>
                <a:lnTo>
                  <a:pt x="-2078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839960" y="3890880"/>
            <a:ext cx="914400" cy="205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000" y="14039"/>
                </a:moveTo>
                <a:lnTo>
                  <a:pt x="-1800" y="119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839600" y="12952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已得不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912680" y="360036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未得不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556000" y="1844640"/>
            <a:ext cx="720720" cy="194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627280" y="4292640"/>
            <a:ext cx="647640" cy="1728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560320" y="158292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前初地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2631600" y="411552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八地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419640" y="2637000"/>
            <a:ext cx="1871640" cy="57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3203640" y="3141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839760" y="2565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證不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3564000" y="3141720"/>
            <a:ext cx="309564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初地已去證不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635280" y="3860640"/>
            <a:ext cx="1440000" cy="505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行不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3276720" y="414972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635280" y="4365720"/>
            <a:ext cx="302436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八地已去行不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708360" y="1773360"/>
            <a:ext cx="1295280" cy="718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信不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211640" y="1268280"/>
            <a:ext cx="2808360" cy="64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4617360" y="12682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即十信第六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492360" y="5084640"/>
            <a:ext cx="18734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煩惱不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3132000" y="5444640"/>
            <a:ext cx="43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3708360" y="5661000"/>
            <a:ext cx="345600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350240" y="5589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漏道所斷煩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754520" y="6021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一切聖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948360" y="1484280"/>
            <a:ext cx="503280" cy="5113440"/>
          </a:xfrm>
          <a:custGeom>
            <a:avLst/>
            <a:gdLst>
              <a:gd name="textAreaLeft" fmla="*/ 0 w 503280"/>
              <a:gd name="textAreaRight" fmla="*/ 353160 w 503280"/>
              <a:gd name="textAreaTop" fmla="*/ 212760 h 5113440"/>
              <a:gd name="textAreaBottom" fmla="*/ 4900680 h 511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7380360" y="260280"/>
            <a:ext cx="1584360" cy="597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529040" y="-820440"/>
            <a:ext cx="729000" cy="81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今說廻心名不退者即第四不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8062560" y="-419040"/>
            <a:ext cx="729000" cy="67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以得證淨故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亦名信不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187280" y="1484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1187280" y="14842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851280" y="1484280"/>
            <a:ext cx="73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364000" y="5157720"/>
            <a:ext cx="194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不退起煩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1403280" y="5734080"/>
            <a:ext cx="1656000" cy="9349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二種不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804000" y="2349360"/>
            <a:ext cx="792360" cy="2232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881400" y="215892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四種不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3851280" y="189000"/>
            <a:ext cx="3240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03520" y="189000"/>
            <a:ext cx="24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位不退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十住第七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292720" y="765000"/>
            <a:ext cx="1655640" cy="432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五種不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9" name=""/>
          <p:cNvCxnSpPr/>
          <p:nvPr/>
        </p:nvCxnSpPr>
        <p:spPr>
          <a:xfrm flipV="1" rot="16200000">
            <a:off x="5630400" y="856440"/>
            <a:ext cx="1662840" cy="1621440"/>
          </a:xfrm>
          <a:prstGeom prst="bentConnector3">
            <a:avLst>
              <a:gd name="adj1" fmla="val 13237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BAD-DF8E-470C-BBAD-1E437819F72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6600B-4143-432C-9E1D-77B07CC9F0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釋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不退菩薩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"/>
          <p:cNvSpPr/>
          <p:nvPr/>
        </p:nvSpPr>
        <p:spPr>
          <a:xfrm>
            <a:off x="684360" y="2492280"/>
            <a:ext cx="1079280" cy="35290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904680" y="233820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不退菩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692360" y="1989000"/>
            <a:ext cx="6480000" cy="825480"/>
          </a:xfrm>
          <a:prstGeom prst="borderCallout1">
            <a:avLst>
              <a:gd name="adj1" fmla="val 18750"/>
              <a:gd name="adj2" fmla="val -8333"/>
              <a:gd name="adj3" fmla="val 100962"/>
              <a:gd name="adj4" fmla="val -450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973960" y="1989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二乘無學果位迴心趣向大菩提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835280" y="2565360"/>
            <a:ext cx="6408720" cy="79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2916360" y="2492280"/>
            <a:ext cx="38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必不退起煩惱障故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趣菩提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979640" y="3141720"/>
            <a:ext cx="633744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967120" y="3068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即復轉名「不退菩薩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627280" y="3716280"/>
            <a:ext cx="554508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3412800" y="3662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彼不成就阿賴耶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268360" y="4292640"/>
            <a:ext cx="604872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2411280" y="4869000"/>
            <a:ext cx="5977080" cy="57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268360" y="5445000"/>
            <a:ext cx="4608720" cy="64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411280" y="6021360"/>
            <a:ext cx="504036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144600" y="59500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煩惱種子未永害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411280" y="53737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是第四人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煩惱不退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3409200" y="4797360"/>
            <a:ext cx="38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又趣菩提轉名菩薩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非直往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400560" y="4221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即攝在此「阿羅漢」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788000" y="907920"/>
            <a:ext cx="4103640" cy="1079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944680" y="981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二乘有學迴心向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359320" y="1341360"/>
            <a:ext cx="24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不名不退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起煩惱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79280" y="1773360"/>
            <a:ext cx="792360" cy="28828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5240" y="127368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二乘無學轉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938D-C303-47DA-8551-D9C7A6200197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37294-F5E1-44A5-9A57-E2D6EB9F41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釋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不退菩薩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"/>
          <p:cNvSpPr/>
          <p:nvPr/>
        </p:nvSpPr>
        <p:spPr>
          <a:xfrm>
            <a:off x="539640" y="2060640"/>
            <a:ext cx="1224000" cy="30970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904680" y="169056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不退菩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564000" y="549360"/>
            <a:ext cx="3740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2411280" y="1989000"/>
            <a:ext cx="4680000" cy="6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2195640" y="3068640"/>
            <a:ext cx="4680000" cy="6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2195640" y="3716280"/>
            <a:ext cx="6048360" cy="50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411280" y="4292640"/>
            <a:ext cx="468000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2268360" y="4869000"/>
            <a:ext cx="5759640" cy="50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268360" y="5516640"/>
            <a:ext cx="4680000" cy="64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4878360" y="1916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一切煩惱永不行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504960" y="3068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法駛流中任運轉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124000" y="2997360"/>
            <a:ext cx="576360" cy="7189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865320" y="4292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能諸行中起諸行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2340000" y="4292640"/>
            <a:ext cx="720720" cy="5763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340000" y="6021360"/>
            <a:ext cx="6553080" cy="503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50920" y="1341360"/>
            <a:ext cx="720720" cy="33829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55240" y="83052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第八地以上菩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3576240" y="5445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剎那剎那轉增進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268360" y="5516640"/>
            <a:ext cx="719280" cy="5763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2268360" y="981000"/>
            <a:ext cx="6624720" cy="93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6804000" y="189000"/>
            <a:ext cx="1513080" cy="863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7184160" y="18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不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7122600" y="549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菩薩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94880" y="981000"/>
            <a:ext cx="44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三乘無學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直往菩薩八地已去亦捨此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230280" y="1341360"/>
            <a:ext cx="47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名不退者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行亦不退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於未得法亦復不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3568680" y="361800"/>
            <a:ext cx="33796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72" y="85725"/>
                </a:moveTo>
                <a:lnTo>
                  <a:pt x="-487" y="4000"/>
                </a:lnTo>
              </a:path>
              <a:path w="21600" h="21600">
                <a:moveTo>
                  <a:pt x="-487" y="0"/>
                </a:moveTo>
                <a:lnTo>
                  <a:pt x="-487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4134240" y="333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動地以上菩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979640" y="2276640"/>
            <a:ext cx="360360" cy="4176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73880 h 4176720"/>
              <a:gd name="textAreaBottom" fmla="*/ 4002840 h 41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547640" y="3357720"/>
            <a:ext cx="432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2124000" y="2492280"/>
            <a:ext cx="6480360" cy="505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1979640" y="2421000"/>
            <a:ext cx="67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八地已去無漏相續無現執藏故可說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340000" y="1916280"/>
            <a:ext cx="719280" cy="647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268360" y="3860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050920" y="3645000"/>
            <a:ext cx="63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第八地已上菩薩於無相海任運而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326760" y="479736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第八地已去於萬行中具修萬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497760" y="59500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第八地後無漏相續故能念念增進諸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6948360" y="2205000"/>
            <a:ext cx="2016360" cy="3888000"/>
          </a:xfrm>
          <a:custGeom>
            <a:avLst/>
            <a:gdLst>
              <a:gd name="textAreaLeft" fmla="*/ 0 w 2016360"/>
              <a:gd name="textAreaRight" fmla="*/ 1414440 w 2016360"/>
              <a:gd name="textAreaTop" fmla="*/ 162000 h 3888000"/>
              <a:gd name="textAreaBottom" fmla="*/ 3726000 h 388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8317080" y="3141720"/>
            <a:ext cx="647640" cy="23749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8248320" y="272556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四理釋不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8EE-4D10-4DDA-8661-011BCC30EBF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56843-5CF2-4421-B2E9-12DB197A40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釋</a:t>
            </a: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第八地以上名不退菩薩</a:t>
            </a: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亦名阿羅漢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"/>
          <p:cNvSpPr/>
          <p:nvPr/>
        </p:nvSpPr>
        <p:spPr>
          <a:xfrm>
            <a:off x="324000" y="2565360"/>
            <a:ext cx="1584000" cy="309564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904680" y="240948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不退菩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79280" y="1773360"/>
            <a:ext cx="720720" cy="3384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55240" y="119088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第八地以上菩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124000" y="1628640"/>
            <a:ext cx="5832720" cy="75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11" y="30122"/>
                </a:moveTo>
                <a:lnTo>
                  <a:pt x="-282" y="3281"/>
                </a:lnTo>
              </a:path>
              <a:path w="21600" h="21600">
                <a:moveTo>
                  <a:pt x="-282" y="0"/>
                </a:moveTo>
                <a:lnTo>
                  <a:pt x="-282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150000" y="16286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雖未斷盡異熟識中煩惱種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268360" y="2205000"/>
            <a:ext cx="576108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2982240" y="2133720"/>
            <a:ext cx="27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而緣此識我見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愛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484360" y="2781360"/>
            <a:ext cx="5543640" cy="64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3269160" y="2708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執藏為自內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771640" y="3357720"/>
            <a:ext cx="568800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87840" y="3284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由斯永捨「阿賴耶」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987640" y="3933720"/>
            <a:ext cx="525636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085000" y="38606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故說不成「阿賴耶識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916360" y="4437000"/>
            <a:ext cx="5329080" cy="792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3975120" y="43657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亦說彼名「阿羅漢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7308720" y="1916280"/>
            <a:ext cx="1224000" cy="20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528320" y="21452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釋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2195640" y="4941720"/>
            <a:ext cx="6697440" cy="1006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3388320" y="49417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第七識等煩惱我執現行無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4460400" y="5300640"/>
            <a:ext cx="23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即無現行執藏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《瑜伽》說之即名為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79280" y="5877000"/>
            <a:ext cx="2232000" cy="792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2411280" y="5877000"/>
            <a:ext cx="6050160" cy="792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411280" y="5805360"/>
            <a:ext cx="62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第二說若斷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伏畢竟不行說為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536760" y="5805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初說名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1041840" y="616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斷種名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3556080" y="6153120"/>
            <a:ext cx="30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故七地前非畢竟故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不得捨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7740720" y="5950080"/>
            <a:ext cx="863640" cy="718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793-CD8F-435C-891C-738B0738E3D5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16B11-4C20-48F0-8C9C-6BB6C90D82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泛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論捨義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"/>
          <p:cNvSpPr/>
          <p:nvPr/>
        </p:nvSpPr>
        <p:spPr>
          <a:xfrm>
            <a:off x="539640" y="2708280"/>
            <a:ext cx="863640" cy="324180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44320" y="3749400"/>
            <a:ext cx="9115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619280" y="1700280"/>
            <a:ext cx="4459320" cy="609480"/>
          </a:xfrm>
          <a:prstGeom prst="borderCallout1">
            <a:avLst>
              <a:gd name="adj1" fmla="val 18750"/>
              <a:gd name="adj2" fmla="val -8333"/>
              <a:gd name="adj3" fmla="val 207814"/>
              <a:gd name="adj4" fmla="val -979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2516760" y="1628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若現行一分無故名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619280" y="2852640"/>
            <a:ext cx="5184720" cy="609840"/>
          </a:xfrm>
          <a:prstGeom prst="borderCallout1">
            <a:avLst>
              <a:gd name="adj1" fmla="val 18750"/>
              <a:gd name="adj2" fmla="val -8333"/>
              <a:gd name="adj3" fmla="val 125259"/>
              <a:gd name="adj4" fmla="val -842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2555280" y="2852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若分別一分無故應亦名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547640" y="4005360"/>
            <a:ext cx="5977080" cy="1079280"/>
          </a:xfrm>
          <a:prstGeom prst="borderCallout1">
            <a:avLst>
              <a:gd name="adj1" fmla="val 18750"/>
              <a:gd name="adj2" fmla="val -8333"/>
              <a:gd name="adj3" fmla="val 77203"/>
              <a:gd name="adj4" fmla="val -611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2280960" y="3933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見道以去至第七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2509560" y="4292640"/>
            <a:ext cx="35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第七不起執藏之時應亦名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763640" y="5805360"/>
            <a:ext cx="2227320" cy="609840"/>
          </a:xfrm>
          <a:prstGeom prst="borderCallout1">
            <a:avLst>
              <a:gd name="adj1" fmla="val 18750"/>
              <a:gd name="adj2" fmla="val -8333"/>
              <a:gd name="adj3" fmla="val -26564"/>
              <a:gd name="adj4" fmla="val -2508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2059560" y="580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佛位全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1692360" y="2276640"/>
            <a:ext cx="5543640" cy="50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1692360" y="3429000"/>
            <a:ext cx="5256000" cy="50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2496960" y="220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謂畢竟永伏煩惱現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486880" y="33577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謂已斷分別二重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979640" y="5013360"/>
            <a:ext cx="59770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967120" y="4941720"/>
            <a:ext cx="39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謂無漏心起亦可名捨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但非畢竟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3635280" y="5734080"/>
            <a:ext cx="4392720" cy="93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4421880" y="57340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畢竟永斷煩惱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4369320" y="6093000"/>
            <a:ext cx="29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或畢竟永斷二重障現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ubHalfFrame"/>
          <p:cNvSpPr/>
          <p:nvPr/>
        </p:nvSpPr>
        <p:spPr>
          <a:xfrm rot="5400000">
            <a:off x="4462920" y="1377000"/>
            <a:ext cx="5400720" cy="3024000"/>
          </a:xfrm>
          <a:custGeom>
            <a:avLst/>
            <a:gdLst>
              <a:gd name="textAreaLeft" fmla="*/ 0 w 5400720"/>
              <a:gd name="textAreaRight" fmla="*/ 3600720 w 5400720"/>
              <a:gd name="textAreaTop" fmla="*/ 0 h 3024000"/>
              <a:gd name="textAreaBottom" fmla="*/ 100800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6843600" y="1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此論亦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6412320" y="692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現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7368840" y="765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一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8059680" y="692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6948360" y="134136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7978320" y="2421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8120880" y="35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8183880" y="398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8120880" y="2946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768924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7968240" y="1916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805-A72D-4F11-8D0C-3FCD01309F5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01916-38D2-4213-A627-6F75E0693B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結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賴耶斷伏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"/>
          <p:cNvSpPr/>
          <p:nvPr/>
        </p:nvSpPr>
        <p:spPr>
          <a:xfrm>
            <a:off x="468360" y="2852640"/>
            <a:ext cx="934920" cy="33847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-186840" y="2924280"/>
            <a:ext cx="16426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賴耶斷伏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1692360" y="1700280"/>
            <a:ext cx="647640" cy="25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124" y="12092"/>
                </a:moveTo>
                <a:lnTo>
                  <a:pt x="-2541" y="979"/>
                </a:lnTo>
              </a:path>
              <a:path w="21600" h="21600">
                <a:moveTo>
                  <a:pt x="-2541" y="0"/>
                </a:moveTo>
                <a:lnTo>
                  <a:pt x="-2541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1148040" y="1700280"/>
            <a:ext cx="1277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總名阿羅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1619280" y="4292640"/>
            <a:ext cx="1008000" cy="230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790" y="6471"/>
                </a:moveTo>
                <a:lnTo>
                  <a:pt x="-1633" y="1071"/>
                </a:lnTo>
              </a:path>
              <a:path w="21600" h="21600">
                <a:moveTo>
                  <a:pt x="-1633" y="0"/>
                </a:moveTo>
                <a:lnTo>
                  <a:pt x="-1633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1552320" y="39592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煩惱麤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1983960" y="42480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畢竟永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2700360" y="1557360"/>
            <a:ext cx="2376360" cy="576360"/>
          </a:xfrm>
          <a:prstGeom prst="borderCallout1">
            <a:avLst>
              <a:gd name="adj1" fmla="val 18750"/>
              <a:gd name="adj2" fmla="val -8333"/>
              <a:gd name="adj3" fmla="val 100000"/>
              <a:gd name="adj4" fmla="val -2124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086280" y="1484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三乘無學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916360" y="2205000"/>
            <a:ext cx="5040360" cy="638280"/>
          </a:xfrm>
          <a:prstGeom prst="borderCallout1">
            <a:avLst>
              <a:gd name="adj1" fmla="val 18750"/>
              <a:gd name="adj2" fmla="val -8333"/>
              <a:gd name="adj3" fmla="val 68157"/>
              <a:gd name="adj4" fmla="val -159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3903840" y="2205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攝第八地以上不退菩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635280" y="2852640"/>
            <a:ext cx="51847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3564000" y="278136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二乘無學果迴心向大菩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456000" y="3357720"/>
            <a:ext cx="5508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375440" y="33577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退起煩惱復轉名不退菩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2987640" y="4149720"/>
            <a:ext cx="5832360" cy="609480"/>
          </a:xfrm>
          <a:prstGeom prst="borderCallout1">
            <a:avLst>
              <a:gd name="adj1" fmla="val 18750"/>
              <a:gd name="adj2" fmla="val -8333"/>
              <a:gd name="adj3" fmla="val 66148"/>
              <a:gd name="adj4" fmla="val -748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3986640" y="4079880"/>
            <a:ext cx="383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永斷離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斷煩惱障種究竟盡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2843280" y="4869000"/>
            <a:ext cx="6121440" cy="609480"/>
          </a:xfrm>
          <a:prstGeom prst="borderCallout1">
            <a:avLst>
              <a:gd name="adj1" fmla="val 18750"/>
              <a:gd name="adj2" fmla="val -8333"/>
              <a:gd name="adj3" fmla="val 77865"/>
              <a:gd name="adj4" fmla="val -593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062320" y="4797360"/>
            <a:ext cx="18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伏斷離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一切現行煩惱畢竟不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3564000" y="260280"/>
            <a:ext cx="4895640" cy="720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2" name=""/>
          <p:cNvCxnSpPr/>
          <p:nvPr/>
        </p:nvCxnSpPr>
        <p:spPr>
          <a:xfrm flipH="1" flipV="1" rot="5400000">
            <a:off x="849960" y="381240"/>
            <a:ext cx="2088360" cy="256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93" name=""/>
          <p:cNvSpPr/>
          <p:nvPr/>
        </p:nvSpPr>
        <p:spPr>
          <a:xfrm>
            <a:off x="61128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3132000" y="62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4389120" y="260280"/>
            <a:ext cx="33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捨賴耶名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捨第八識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250920" y="1773360"/>
            <a:ext cx="1117440" cy="12254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捨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2771640" y="5589720"/>
            <a:ext cx="612144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824200" y="582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9" name=""/>
          <p:cNvCxnSpPr/>
          <p:nvPr/>
        </p:nvCxnSpPr>
        <p:spPr>
          <a:xfrm flipH="1" rot="16200000">
            <a:off x="1564920" y="5355000"/>
            <a:ext cx="648360" cy="1980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00" name=""/>
          <p:cNvSpPr/>
          <p:nvPr/>
        </p:nvSpPr>
        <p:spPr>
          <a:xfrm>
            <a:off x="2700360" y="5516640"/>
            <a:ext cx="62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阿羅漢斷此識中煩惱麤重究竟盡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771640" y="6093000"/>
            <a:ext cx="5329440" cy="57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不復執藏阿賴耶識為自內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900000" y="5589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5364000" y="907920"/>
            <a:ext cx="338328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5292720" y="836640"/>
            <a:ext cx="34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勿阿羅漢無識持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5940360" y="1413000"/>
            <a:ext cx="295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便入無餘涅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2843280" y="2492280"/>
            <a:ext cx="792000" cy="576360"/>
          </a:xfrm>
          <a:custGeom>
            <a:avLst/>
            <a:gdLst>
              <a:gd name="textAreaLeft" fmla="*/ 232920 w 792000"/>
              <a:gd name="textAreaRight" fmla="*/ 792360 w 792000"/>
              <a:gd name="textAreaTop" fmla="*/ 23760 h 576360"/>
              <a:gd name="textAreaBottom" fmla="*/ 552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90D-5F06-4CC2-98AB-0C49BC6659E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AE7BC-DAA7-45CC-85D0-8E507384B5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辨捨</a:t>
            </a: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初地至七地菩薩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"/>
          <p:cNvSpPr/>
          <p:nvPr/>
        </p:nvSpPr>
        <p:spPr>
          <a:xfrm>
            <a:off x="324000" y="1700280"/>
            <a:ext cx="1079280" cy="43210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399600" y="92592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初地至七地菩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547640" y="1628640"/>
            <a:ext cx="3529080" cy="609840"/>
          </a:xfrm>
          <a:prstGeom prst="borderCallout1">
            <a:avLst>
              <a:gd name="adj1" fmla="val 18750"/>
              <a:gd name="adj2" fmla="val -8333"/>
              <a:gd name="adj3" fmla="val 101300"/>
              <a:gd name="adj4" fmla="val -832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2189520" y="1557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已證二空所顯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1476360" y="2133720"/>
            <a:ext cx="5543640" cy="609480"/>
          </a:xfrm>
          <a:prstGeom prst="borderCallout1">
            <a:avLst>
              <a:gd name="adj1" fmla="val 18750"/>
              <a:gd name="adj2" fmla="val -8333"/>
              <a:gd name="adj3" fmla="val 125000"/>
              <a:gd name="adj4" fmla="val -526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43680" y="2135160"/>
            <a:ext cx="35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已得根本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後得二種殊勝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476360" y="2708280"/>
            <a:ext cx="3527280" cy="609480"/>
          </a:xfrm>
          <a:prstGeom prst="borderCallout1">
            <a:avLst>
              <a:gd name="adj1" fmla="val 18750"/>
              <a:gd name="adj2" fmla="val -8333"/>
              <a:gd name="adj3" fmla="val 125000"/>
              <a:gd name="adj4" fmla="val -1030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2097360" y="2654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已斷分別二重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1476360" y="3213000"/>
            <a:ext cx="4245120" cy="609840"/>
          </a:xfrm>
          <a:prstGeom prst="borderCallout1">
            <a:avLst>
              <a:gd name="adj1" fmla="val 18750"/>
              <a:gd name="adj2" fmla="val -8333"/>
              <a:gd name="adj3" fmla="val 122916"/>
              <a:gd name="adj4" fmla="val -908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2992320" y="3213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能一行中起諸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1476360" y="3789360"/>
            <a:ext cx="6696000" cy="609480"/>
          </a:xfrm>
          <a:prstGeom prst="borderCallout1">
            <a:avLst>
              <a:gd name="adj1" fmla="val 18750"/>
              <a:gd name="adj2" fmla="val -8333"/>
              <a:gd name="adj3" fmla="val 133856"/>
              <a:gd name="adj4" fmla="val -74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667240" y="3716280"/>
            <a:ext cx="44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雖為利益起諸煩惱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作煩惱過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292720" y="3141720"/>
            <a:ext cx="338472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亦名不退菩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619280" y="4508640"/>
            <a:ext cx="5329080" cy="57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45" y="12436"/>
                </a:moveTo>
                <a:lnTo>
                  <a:pt x="-309" y="428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2626560" y="44370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七地前猶有俱生我見愛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1547640" y="5013360"/>
            <a:ext cx="712800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1547640" y="4941720"/>
            <a:ext cx="71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執藏此識自內我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如何已捨阿賴耶名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1476360" y="5589720"/>
            <a:ext cx="6767640" cy="50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彼六識中所起煩惱雖由正知不為過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1403280" y="6093000"/>
            <a:ext cx="6624720" cy="57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第七識有漏心位任運現行執藏此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B7F-CDF2-4E69-9E5A-51F9AD02765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97C32-F1E8-4568-A0F6-3B8118B3A0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辨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0" name=""/>
          <p:cNvSpPr/>
          <p:nvPr/>
        </p:nvSpPr>
        <p:spPr>
          <a:xfrm>
            <a:off x="468360" y="2492280"/>
            <a:ext cx="1150920" cy="345780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615600" y="313560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辨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1835280" y="20606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763640" y="3429000"/>
            <a:ext cx="15130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3" y="19350"/>
                </a:moveTo>
                <a:lnTo>
                  <a:pt x="-1088" y="4000"/>
                </a:lnTo>
              </a:path>
              <a:path w="21600" h="21600">
                <a:moveTo>
                  <a:pt x="-1088" y="0"/>
                </a:moveTo>
                <a:lnTo>
                  <a:pt x="-1088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039760" y="342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聲聞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1979640" y="2205000"/>
            <a:ext cx="165564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80" y="29531"/>
                </a:moveTo>
                <a:lnTo>
                  <a:pt x="-994" y="4000"/>
                </a:lnTo>
              </a:path>
              <a:path w="21600" h="21600">
                <a:moveTo>
                  <a:pt x="-994" y="0"/>
                </a:moveTo>
                <a:lnTo>
                  <a:pt x="-994" y="21600"/>
                </a:lnTo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327040" y="2205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大乘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564000" y="2565360"/>
            <a:ext cx="3168720" cy="719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258800" y="2637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退失現法樂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1979640" y="4005360"/>
            <a:ext cx="5329080" cy="57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退失聖果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然必此生還得彼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5796000" y="3573360"/>
            <a:ext cx="1727280" cy="505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不經生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2195640" y="4581360"/>
            <a:ext cx="48974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若現退者但在人間有退緣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692360" y="5157720"/>
            <a:ext cx="6337080" cy="50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僧事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2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諍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3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遠行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4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多病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5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樂誦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09E-3392-4525-8572-BEB0D0B0E38A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A942F-05D0-4D1F-B5C8-3EE171EBF7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觸心所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廣釋三和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3429000"/>
            <a:ext cx="1225440" cy="21607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31560" y="3573360"/>
            <a:ext cx="16426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觸心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19280" y="1989000"/>
            <a:ext cx="914400" cy="1193760"/>
          </a:xfrm>
          <a:prstGeom prst="borderCallout1">
            <a:avLst>
              <a:gd name="adj1" fmla="val 18750"/>
              <a:gd name="adj2" fmla="val -8333"/>
              <a:gd name="adj3" fmla="val 136171"/>
              <a:gd name="adj4" fmla="val -2413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5600" y="178488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三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6000" y="1844640"/>
            <a:ext cx="1942920" cy="1122480"/>
          </a:xfrm>
          <a:prstGeom prst="borderCallout1">
            <a:avLst>
              <a:gd name="adj1" fmla="val 18750"/>
              <a:gd name="adj2" fmla="val -8333"/>
              <a:gd name="adj3" fmla="val 35787"/>
              <a:gd name="adj4" fmla="val -759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由二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23200" y="227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觸名三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64000" y="1125360"/>
            <a:ext cx="3168720" cy="1511640"/>
          </a:xfrm>
          <a:prstGeom prst="borderCallout1">
            <a:avLst>
              <a:gd name="adj1" fmla="val 18750"/>
              <a:gd name="adj2" fmla="val -8333"/>
              <a:gd name="adj3" fmla="val 70379"/>
              <a:gd name="adj4" fmla="val -3291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47560" y="105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觸依彼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76240" y="1557360"/>
            <a:ext cx="27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彼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根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境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識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84120" y="1916280"/>
            <a:ext cx="20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彼為觸之因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172360" y="692280"/>
            <a:ext cx="792360" cy="2016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48320" y="35892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三和生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2997360"/>
            <a:ext cx="3671640" cy="1079280"/>
          </a:xfrm>
          <a:prstGeom prst="borderCallout1">
            <a:avLst>
              <a:gd name="adj1" fmla="val 18750"/>
              <a:gd name="adj2" fmla="val -8333"/>
              <a:gd name="adj3" fmla="val -13384"/>
              <a:gd name="adj4" fmla="val -2166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37040" y="2924280"/>
            <a:ext cx="331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令彼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根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境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識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43920" y="3429000"/>
            <a:ext cx="23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彼合為觸之果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03640" y="4292640"/>
            <a:ext cx="3959280" cy="1441440"/>
          </a:xfrm>
          <a:prstGeom prst="borderCallout1">
            <a:avLst>
              <a:gd name="adj1" fmla="val 18750"/>
              <a:gd name="adj2" fmla="val -8333"/>
              <a:gd name="adj3" fmla="val -32046"/>
              <a:gd name="adj4" fmla="val -192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6200" y="429264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觸能令根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境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識三法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2680" y="4724280"/>
            <a:ext cx="292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為依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取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所生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了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34600" y="50846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三和合由觸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00720" y="5734080"/>
            <a:ext cx="3384360" cy="7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說觸為彼三和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3357720"/>
            <a:ext cx="1872000" cy="1150920"/>
          </a:xfrm>
          <a:prstGeom prst="borderCallout1">
            <a:avLst>
              <a:gd name="adj1" fmla="val 18750"/>
              <a:gd name="adj2" fmla="val -8333"/>
              <a:gd name="adj3" fmla="val -51587"/>
              <a:gd name="adj4" fmla="val 2375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88000" y="1916280"/>
            <a:ext cx="720720" cy="57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3429000"/>
            <a:ext cx="505080" cy="792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62840" y="335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從觸之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35920" y="3789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及所和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35280" y="4869000"/>
            <a:ext cx="2089080" cy="647640"/>
          </a:xfrm>
          <a:prstGeom prst="borderCallout1">
            <a:avLst>
              <a:gd name="adj1" fmla="val 18750"/>
              <a:gd name="adj2" fmla="val -8333"/>
              <a:gd name="adj3" fmla="val -298037"/>
              <a:gd name="adj4" fmla="val -364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59280" y="4292640"/>
            <a:ext cx="16570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71520" y="4941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俱起不相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76360" y="5516640"/>
            <a:ext cx="28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不相違同辦一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EDA-3999-480A-966C-8973A34C15E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A5B0E-C7FC-48AC-A31E-1C69288243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釋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第八識眾異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5" name=""/>
          <p:cNvSpPr/>
          <p:nvPr/>
        </p:nvSpPr>
        <p:spPr>
          <a:xfrm>
            <a:off x="684360" y="1773360"/>
            <a:ext cx="1079280" cy="3384360"/>
          </a:xfrm>
          <a:prstGeom prst="vertic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第八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1476360" y="3357720"/>
            <a:ext cx="647640" cy="3240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1480680" y="277524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諸有情皆悉成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2050920" y="4724280"/>
            <a:ext cx="792360" cy="1944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2055600" y="439092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隨義別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2700360" y="5084640"/>
            <a:ext cx="863640" cy="158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2775600" y="480780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種種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3924360" y="1700280"/>
            <a:ext cx="302112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121" y="118913"/>
                </a:moveTo>
                <a:lnTo>
                  <a:pt x="-545" y="4000"/>
                </a:lnTo>
              </a:path>
              <a:path w="21600" h="21600">
                <a:moveTo>
                  <a:pt x="-545" y="0"/>
                </a:moveTo>
                <a:lnTo>
                  <a:pt x="-545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通一切位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3995640" y="4076640"/>
            <a:ext cx="20890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84" y="63506"/>
                </a:moveTo>
                <a:lnTo>
                  <a:pt x="-788" y="4000"/>
                </a:lnTo>
              </a:path>
              <a:path w="21600" h="21600">
                <a:moveTo>
                  <a:pt x="-788" y="0"/>
                </a:moveTo>
                <a:lnTo>
                  <a:pt x="-788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4363200" y="400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專別立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4211640" y="2781360"/>
            <a:ext cx="237636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阿陀那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5003640" y="3284640"/>
            <a:ext cx="252108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所知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804000" y="3789360"/>
            <a:ext cx="1943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種子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6084720" y="2276640"/>
            <a:ext cx="2016360" cy="57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6897240" y="2205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4716360" y="4581360"/>
            <a:ext cx="2016360" cy="64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阿賴耶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5364000" y="5229360"/>
            <a:ext cx="201636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異熟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6084720" y="5877000"/>
            <a:ext cx="201636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垢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3348000" y="2276640"/>
            <a:ext cx="719280" cy="1223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3384360" y="2284560"/>
            <a:ext cx="7290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3635280" y="4437000"/>
            <a:ext cx="649440" cy="11527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671640" y="4444920"/>
            <a:ext cx="7290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C55-62C8-4E5D-938B-A58B61CAD08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53E97-4AB9-411E-822C-8339F276E8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釋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第八識通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一切位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9" name=""/>
          <p:cNvSpPr/>
          <p:nvPr/>
        </p:nvSpPr>
        <p:spPr>
          <a:xfrm>
            <a:off x="468360" y="2492280"/>
            <a:ext cx="1008000" cy="324180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544320" y="2083320"/>
            <a:ext cx="91152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通一切位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1835280" y="1773360"/>
            <a:ext cx="122076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84" y="37350"/>
                </a:moveTo>
                <a:lnTo>
                  <a:pt x="-1348" y="4000"/>
                </a:lnTo>
              </a:path>
              <a:path w="21600" h="21600">
                <a:moveTo>
                  <a:pt x="-1348" y="0"/>
                </a:moveTo>
                <a:lnTo>
                  <a:pt x="-1348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207252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1835280" y="2349360"/>
            <a:ext cx="5545080" cy="64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由種種法熏習種子所積集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1692360" y="3068640"/>
            <a:ext cx="208764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517" y="30229"/>
                </a:moveTo>
                <a:lnTo>
                  <a:pt x="-788" y="3812"/>
                </a:lnTo>
              </a:path>
              <a:path w="21600" h="21600">
                <a:moveTo>
                  <a:pt x="-788" y="0"/>
                </a:moveTo>
                <a:lnTo>
                  <a:pt x="-788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124000" y="3645000"/>
            <a:ext cx="576108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執持種子及諸色根令不壞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2131200" y="306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阿陀那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1908000" y="4941720"/>
            <a:ext cx="5616720" cy="505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能與染淨所知諸法為依止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1763640" y="4365720"/>
            <a:ext cx="15130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76" y="21938"/>
                </a:moveTo>
                <a:lnTo>
                  <a:pt x="-1088" y="4000"/>
                </a:lnTo>
              </a:path>
              <a:path w="21600" h="21600">
                <a:moveTo>
                  <a:pt x="-1088" y="0"/>
                </a:moveTo>
                <a:lnTo>
                  <a:pt x="-1088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2039760" y="4365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所知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979640" y="6093000"/>
            <a:ext cx="5545080" cy="57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能遍任持世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出世間種子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1908000" y="5589720"/>
            <a:ext cx="136872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26" y="-26550"/>
                </a:moveTo>
                <a:lnTo>
                  <a:pt x="-1203" y="4000"/>
                </a:lnTo>
              </a:path>
              <a:path w="21600" h="21600">
                <a:moveTo>
                  <a:pt x="-1203" y="0"/>
                </a:moveTo>
                <a:lnTo>
                  <a:pt x="-1203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039760" y="5516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種子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7AC-FCA6-4D9E-83EB-87C2DF53E264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F5941-1EB4-4FDF-A5CA-B82D12726C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釋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第八識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專別立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5" name=""/>
          <p:cNvSpPr/>
          <p:nvPr/>
        </p:nvSpPr>
        <p:spPr>
          <a:xfrm>
            <a:off x="539640" y="2565360"/>
            <a:ext cx="792360" cy="345600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472680" y="262548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專別立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476360" y="1844640"/>
            <a:ext cx="215892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22" y="34650"/>
                </a:moveTo>
                <a:lnTo>
                  <a:pt x="-762" y="4000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476360" y="2781360"/>
            <a:ext cx="158292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86" y="34650"/>
                </a:moveTo>
                <a:lnTo>
                  <a:pt x="-1040" y="4000"/>
                </a:lnTo>
              </a:path>
              <a:path w="21600" h="21600">
                <a:moveTo>
                  <a:pt x="-1040" y="0"/>
                </a:moveTo>
                <a:lnTo>
                  <a:pt x="-1040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547640" y="4365720"/>
            <a:ext cx="136692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222" y="12600"/>
                </a:moveTo>
                <a:lnTo>
                  <a:pt x="-1204" y="4000"/>
                </a:lnTo>
              </a:path>
              <a:path w="21600" h="21600">
                <a:moveTo>
                  <a:pt x="-1204" y="0"/>
                </a:moveTo>
                <a:lnTo>
                  <a:pt x="-1204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1843920" y="177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阿賴耶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3492360" y="1341360"/>
            <a:ext cx="489600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攝藏一切雜染品法令不失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3780000" y="1844640"/>
            <a:ext cx="489744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我見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愛等執藏以自內我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4427640" y="2492280"/>
            <a:ext cx="439236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此名唯在異生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有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1752480" y="2708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異熟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2700360" y="3213000"/>
            <a:ext cx="5688000" cy="649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能引生死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善不善業異熟果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3203640" y="3860640"/>
            <a:ext cx="5472000" cy="64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此名唯在異生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二乘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諸菩薩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1679400" y="4365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垢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2843280" y="4653000"/>
            <a:ext cx="5184720" cy="649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2484360" y="5229360"/>
            <a:ext cx="5473800" cy="57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3964680" y="4581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最極清淨諸無漏法所依止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279240" y="51577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此名唯在如來地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2916360" y="5661000"/>
            <a:ext cx="5329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菩薩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二乘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異生位持有漏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1835280" y="6165720"/>
            <a:ext cx="561636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可受熏習未得善淨第八識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E9E-1572-4BA6-9F6A-E2F26A0CC0B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17C55-6E08-42DE-8C3F-30D6C39E8C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釋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第八識眾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名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"/>
          <p:cNvSpPr/>
          <p:nvPr/>
        </p:nvSpPr>
        <p:spPr>
          <a:xfrm>
            <a:off x="468360" y="2492280"/>
            <a:ext cx="1224000" cy="35290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688680" y="1890360"/>
            <a:ext cx="91152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異名捨</a:t>
            </a: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不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1547640" y="1557360"/>
            <a:ext cx="2016360" cy="609480"/>
          </a:xfrm>
          <a:prstGeom prst="borderCallout1">
            <a:avLst>
              <a:gd name="adj1" fmla="val 18750"/>
              <a:gd name="adj2" fmla="val -8333"/>
              <a:gd name="adj3" fmla="val 229689"/>
              <a:gd name="adj4" fmla="val -377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1979640" y="2349360"/>
            <a:ext cx="1584360" cy="609840"/>
          </a:xfrm>
          <a:prstGeom prst="borderCallout1">
            <a:avLst>
              <a:gd name="adj1" fmla="val 18750"/>
              <a:gd name="adj2" fmla="val -8333"/>
              <a:gd name="adj3" fmla="val 136717"/>
              <a:gd name="adj4" fmla="val -2745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1979640" y="4437000"/>
            <a:ext cx="1728720" cy="647640"/>
          </a:xfrm>
          <a:prstGeom prst="borderCallout1">
            <a:avLst>
              <a:gd name="adj1" fmla="val 18750"/>
              <a:gd name="adj2" fmla="val -8333"/>
              <a:gd name="adj3" fmla="val 162009"/>
              <a:gd name="adj4" fmla="val -2516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2050920" y="3357720"/>
            <a:ext cx="1081080" cy="609480"/>
          </a:xfrm>
          <a:prstGeom prst="borderCallout1">
            <a:avLst>
              <a:gd name="adj1" fmla="val 18750"/>
              <a:gd name="adj2" fmla="val -8333"/>
              <a:gd name="adj3" fmla="val 136717"/>
              <a:gd name="adj4" fmla="val -4023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2050920" y="5589720"/>
            <a:ext cx="2232000" cy="609480"/>
          </a:xfrm>
          <a:prstGeom prst="borderCallout1">
            <a:avLst>
              <a:gd name="adj1" fmla="val 18750"/>
              <a:gd name="adj2" fmla="val -8333"/>
              <a:gd name="adj3" fmla="val -71615"/>
              <a:gd name="adj4" fmla="val -2631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1547640" y="1484280"/>
            <a:ext cx="25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阿賴耶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3564000" y="1413000"/>
            <a:ext cx="4968720" cy="57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過失重故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最初捨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此中偏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2184120" y="2349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異熟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3492360" y="2349360"/>
            <a:ext cx="324180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菩薩將得菩提時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3419640" y="3068640"/>
            <a:ext cx="504000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聲聞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獨覺入無餘依涅槃時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205092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1258920" y="1989000"/>
            <a:ext cx="865080" cy="935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635280" y="4869000"/>
            <a:ext cx="5042160" cy="57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無有捨時利樂有情無盡時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2400120" y="4365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垢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1403280" y="4365720"/>
            <a:ext cx="792360" cy="11523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1480680" y="426996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235600" y="328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心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059280" y="3789360"/>
            <a:ext cx="475272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二乘入無餘依涅槃時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1835280" y="278136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1979640" y="5516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佛亦名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476360" y="6165720"/>
            <a:ext cx="6624720" cy="503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佛無熏習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前有熏習之種亦有亦得名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6877080" y="1989000"/>
            <a:ext cx="1942920" cy="503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據捨縛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4067280" y="5516640"/>
            <a:ext cx="3457440" cy="64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無漏心者無有捨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0F1-AE65-4972-8CFF-A898B5B365C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2E203-E0C5-41A3-993B-63AF178D64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再釋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異熟識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3" name=""/>
          <p:cNvSpPr/>
          <p:nvPr/>
        </p:nvSpPr>
        <p:spPr>
          <a:xfrm>
            <a:off x="1116000" y="1628640"/>
            <a:ext cx="1152360" cy="48247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191960" y="219384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異熟識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2050920" y="1773360"/>
            <a:ext cx="5977080" cy="609480"/>
          </a:xfrm>
          <a:prstGeom prst="borderCallout1">
            <a:avLst>
              <a:gd name="adj1" fmla="val 18750"/>
              <a:gd name="adj2" fmla="val -8333"/>
              <a:gd name="adj3" fmla="val 42449"/>
              <a:gd name="adj4" fmla="val -8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324000" y="1484280"/>
            <a:ext cx="828360" cy="4753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399240" y="11883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將得菩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327600" y="311256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捨異熟識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3169800" y="177336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間道：金剛心與異熟識俱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2195640" y="4005360"/>
            <a:ext cx="6408720" cy="609480"/>
          </a:xfrm>
          <a:prstGeom prst="borderCallout1">
            <a:avLst>
              <a:gd name="adj1" fmla="val 18750"/>
              <a:gd name="adj2" fmla="val -8333"/>
              <a:gd name="adj3" fmla="val 42449"/>
              <a:gd name="adj4" fmla="val -455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2411280" y="2349360"/>
            <a:ext cx="5616720" cy="64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3438720" y="23493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解脫道：菩提與圓鏡智俱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995640" y="2997360"/>
            <a:ext cx="4537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菩提在未來故名將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3851280" y="1052640"/>
            <a:ext cx="5113440" cy="7189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3708360" y="1052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捨異生性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正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現在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捨名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7885080" y="1844640"/>
            <a:ext cx="1008000" cy="1224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7816680" y="174888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種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8248320" y="189360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同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3132000" y="3933720"/>
            <a:ext cx="38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間道：金剛心生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異熟識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2843280" y="4581360"/>
            <a:ext cx="525780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菩提在當解脫道時與成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2627280" y="5300640"/>
            <a:ext cx="547380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既無別體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其時已捨異熟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2556000" y="6021360"/>
            <a:ext cx="518472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菩提將成就故名為將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7885080" y="4076640"/>
            <a:ext cx="1042920" cy="1224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7889400" y="390960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種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8248320" y="412560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同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AA8-976F-4221-ACD3-02E376F6AF28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CE9D9-D39F-4447-80E4-EA3D10B1DE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4321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三釋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異熟識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"/>
          <p:cNvSpPr/>
          <p:nvPr/>
        </p:nvSpPr>
        <p:spPr>
          <a:xfrm>
            <a:off x="539640" y="2205000"/>
            <a:ext cx="1008000" cy="424836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666360" y="250812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異熟識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1476360" y="1700280"/>
            <a:ext cx="1224000" cy="4249800"/>
          </a:xfrm>
          <a:prstGeom prst="wedgeRectCallout">
            <a:avLst>
              <a:gd name="adj1" fmla="val -43773"/>
              <a:gd name="adj2" fmla="val 2964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1552320" y="1250640"/>
            <a:ext cx="7290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若無間道捨異熟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2055600" y="1024560"/>
            <a:ext cx="7290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此時何故不名為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771640" y="1628640"/>
            <a:ext cx="194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25" y="5142"/>
                </a:moveTo>
                <a:lnTo>
                  <a:pt x="-846" y="979"/>
                </a:lnTo>
              </a:path>
              <a:path w="21600" h="21600">
                <a:moveTo>
                  <a:pt x="-846" y="0"/>
                </a:moveTo>
                <a:lnTo>
                  <a:pt x="-846" y="21600"/>
                </a:lnTo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47240" y="133128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彼時初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80680" y="147564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未圓滿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783600" y="154728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不名為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572000" y="2637000"/>
            <a:ext cx="934920" cy="3744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647240" y="282384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約成就名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5580000" y="765000"/>
            <a:ext cx="792360" cy="5545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588000" y="620640"/>
            <a:ext cx="936720" cy="5832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5107320" y="981000"/>
            <a:ext cx="1277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二乘正入無餘依時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2" name=""/>
          <p:cNvCxnSpPr>
            <a:stCxn id="1758" idx="0"/>
            <a:endCxn id="1769" idx="0"/>
          </p:cNvCxnSpPr>
          <p:nvPr/>
        </p:nvCxnSpPr>
        <p:spPr>
          <a:xfrm flipH="1" flipV="1" rot="5400000">
            <a:off x="2790720" y="-981360"/>
            <a:ext cx="1440360" cy="4933080"/>
          </a:xfrm>
          <a:prstGeom prst="bentConnector3">
            <a:avLst>
              <a:gd name="adj1" fmla="val 1159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3" name=""/>
          <p:cNvSpPr/>
          <p:nvPr/>
        </p:nvSpPr>
        <p:spPr>
          <a:xfrm>
            <a:off x="6663960" y="-97560"/>
            <a:ext cx="729000" cy="73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若菩薩金剛心捨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行名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4" name=""/>
          <p:cNvCxnSpPr>
            <a:stCxn id="1758" idx="0"/>
            <a:endCxn id="1770" idx="0"/>
          </p:cNvCxnSpPr>
          <p:nvPr/>
        </p:nvCxnSpPr>
        <p:spPr>
          <a:xfrm flipH="1" flipV="1" rot="5400000">
            <a:off x="3258000" y="-1593720"/>
            <a:ext cx="1585080" cy="6012360"/>
          </a:xfrm>
          <a:prstGeom prst="bentConnector3">
            <a:avLst>
              <a:gd name="adj1" fmla="val 1144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5" name=""/>
          <p:cNvSpPr/>
          <p:nvPr/>
        </p:nvSpPr>
        <p:spPr>
          <a:xfrm>
            <a:off x="7380360" y="333360"/>
            <a:ext cx="792000" cy="583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7456320" y="-755280"/>
            <a:ext cx="729000" cy="79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非斷縛義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斷異熟識之無記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8101080" y="3500280"/>
            <a:ext cx="718920" cy="23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8105400" y="308412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說捨無記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2771640" y="4149720"/>
            <a:ext cx="1778040" cy="23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55" y="-1962"/>
                </a:moveTo>
                <a:lnTo>
                  <a:pt x="-926" y="1039"/>
                </a:lnTo>
              </a:path>
              <a:path w="21600" h="21600">
                <a:moveTo>
                  <a:pt x="-926" y="0"/>
                </a:moveTo>
                <a:lnTo>
                  <a:pt x="-926" y="21600"/>
                </a:lnTo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2720520" y="457272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間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3207960" y="373356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有捨異熟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712680" y="373356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以正捨名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9B3-2189-4D59-A2C8-17CBC4D255D9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9F064-88DC-4955-B7CC-393A273388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四釋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異熟識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5" name=""/>
          <p:cNvSpPr/>
          <p:nvPr/>
        </p:nvSpPr>
        <p:spPr>
          <a:xfrm>
            <a:off x="539640" y="2205000"/>
            <a:ext cx="1079640" cy="37450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15600" y="226512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異熟識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547640" y="2306520"/>
            <a:ext cx="792360" cy="1266840"/>
          </a:xfrm>
          <a:prstGeom prst="borderCallout1">
            <a:avLst>
              <a:gd name="adj1" fmla="val 18750"/>
              <a:gd name="adj2" fmla="val -8333"/>
              <a:gd name="adj3" fmla="val 73185"/>
              <a:gd name="adj4" fmla="val -6312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623240" y="216432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種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2484360" y="1916280"/>
            <a:ext cx="647640" cy="1368360"/>
          </a:xfrm>
          <a:prstGeom prst="borderCallout1">
            <a:avLst>
              <a:gd name="adj1" fmla="val 18750"/>
              <a:gd name="adj2" fmla="val -8333"/>
              <a:gd name="adj3" fmla="val 50347"/>
              <a:gd name="adj4" fmla="val -34069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2268360" y="3860640"/>
            <a:ext cx="574920" cy="1224000"/>
          </a:xfrm>
          <a:prstGeom prst="borderCallout1">
            <a:avLst>
              <a:gd name="adj1" fmla="val 18750"/>
              <a:gd name="adj2" fmla="val -8333"/>
              <a:gd name="adj3" fmla="val -61217"/>
              <a:gd name="adj4" fmla="val -5082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2484360" y="1916280"/>
            <a:ext cx="109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2415960" y="196632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同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2199960" y="376668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異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492360" y="1700280"/>
            <a:ext cx="1943280" cy="609480"/>
          </a:xfrm>
          <a:prstGeom prst="borderCallout1">
            <a:avLst>
              <a:gd name="adj1" fmla="val 18750"/>
              <a:gd name="adj2" fmla="val -8333"/>
              <a:gd name="adj3" fmla="val 54166"/>
              <a:gd name="adj4" fmla="val -2614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859920" y="170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間道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564000" y="2421000"/>
            <a:ext cx="18716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解脫道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3132000" y="3716280"/>
            <a:ext cx="2016360" cy="609480"/>
          </a:xfrm>
          <a:prstGeom prst="borderCallout1">
            <a:avLst>
              <a:gd name="adj1" fmla="val 18750"/>
              <a:gd name="adj2" fmla="val -8333"/>
              <a:gd name="adj3" fmla="val 77606"/>
              <a:gd name="adj4" fmla="val -1803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132000" y="4797360"/>
            <a:ext cx="2087640" cy="609840"/>
          </a:xfrm>
          <a:prstGeom prst="borderCallout1">
            <a:avLst>
              <a:gd name="adj1" fmla="val 18750"/>
              <a:gd name="adj2" fmla="val -8333"/>
              <a:gd name="adj3" fmla="val 6773"/>
              <a:gd name="adj4" fmla="val -1741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3499560" y="371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間道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2916360" y="2637000"/>
            <a:ext cx="718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3570840" y="472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解脫道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508720" y="2997360"/>
            <a:ext cx="208908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方便道捨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5724360" y="3716280"/>
            <a:ext cx="20876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無間道捨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5724360" y="4581360"/>
            <a:ext cx="223236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無間道捨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5651640" y="5516640"/>
            <a:ext cx="24494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6059520" y="5445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解脫道捨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5076720" y="3284640"/>
            <a:ext cx="719280" cy="936360"/>
          </a:xfrm>
          <a:custGeom>
            <a:avLst/>
            <a:gdLst>
              <a:gd name="textAreaLeft" fmla="*/ 211320 w 719280"/>
              <a:gd name="textAreaRight" fmla="*/ 719640 w 719280"/>
              <a:gd name="textAreaTop" fmla="*/ 38880 h 936360"/>
              <a:gd name="textAreaBottom" fmla="*/ 89748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148360" y="4869000"/>
            <a:ext cx="576000" cy="865080"/>
          </a:xfrm>
          <a:custGeom>
            <a:avLst/>
            <a:gdLst>
              <a:gd name="textAreaLeft" fmla="*/ 169200 w 576000"/>
              <a:gd name="textAreaRight" fmla="*/ 576000 w 576000"/>
              <a:gd name="textAreaTop" fmla="*/ 36000 h 865080"/>
              <a:gd name="textAreaBottom" fmla="*/ 82908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7524720" y="549360"/>
            <a:ext cx="647640" cy="33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7529040" y="101880"/>
            <a:ext cx="60696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金剛心分前後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8028000" y="836640"/>
            <a:ext cx="503280" cy="30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7960680" y="678240"/>
            <a:ext cx="60696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果與無間道俱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8388360" y="2276640"/>
            <a:ext cx="53964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8321040" y="209340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因在滅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1835280" y="5516640"/>
            <a:ext cx="3240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初得名得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得已成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68360" y="6093000"/>
            <a:ext cx="5761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金剛心得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解脫道名得已相續名成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D276-A910-4712-9748-B7BA4123E113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2C64A-C2CA-48C3-A5AC-4C5B856875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總經論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第八識異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"/>
          <p:cNvSpPr/>
          <p:nvPr/>
        </p:nvSpPr>
        <p:spPr>
          <a:xfrm>
            <a:off x="324000" y="1700280"/>
            <a:ext cx="1295280" cy="482436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615600" y="146952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第八識眾異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476360" y="2708280"/>
            <a:ext cx="115092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622520" y="2199240"/>
            <a:ext cx="8506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總有十八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2843280" y="1773360"/>
            <a:ext cx="2449440" cy="609480"/>
          </a:xfrm>
          <a:prstGeom prst="borderCallout1">
            <a:avLst>
              <a:gd name="adj1" fmla="val 18750"/>
              <a:gd name="adj2" fmla="val -8333"/>
              <a:gd name="adj3" fmla="val 184115"/>
              <a:gd name="adj4" fmla="val -2074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3911400" y="170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沒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2843280" y="1773360"/>
            <a:ext cx="720720" cy="647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3924360" y="2349360"/>
            <a:ext cx="4535280" cy="57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219640" y="1628640"/>
            <a:ext cx="187344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《無相論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5597640" y="2276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一切諸種無所隱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703600" y="3170160"/>
            <a:ext cx="2300040" cy="609840"/>
          </a:xfrm>
          <a:prstGeom prst="borderCallout1">
            <a:avLst>
              <a:gd name="adj1" fmla="val 18750"/>
              <a:gd name="adj2" fmla="val -8333"/>
              <a:gd name="adj3" fmla="val 89583"/>
              <a:gd name="adj4" fmla="val -1580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3819960" y="3141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本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700360" y="3141720"/>
            <a:ext cx="719280" cy="647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4859280" y="3141720"/>
            <a:ext cx="3025800" cy="57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6004080" y="306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一切法之根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776680" y="4035600"/>
            <a:ext cx="2155680" cy="609480"/>
          </a:xfrm>
          <a:prstGeom prst="borderCallout1">
            <a:avLst>
              <a:gd name="adj1" fmla="val 18750"/>
              <a:gd name="adj2" fmla="val -8333"/>
              <a:gd name="adj3" fmla="val 77606"/>
              <a:gd name="adj4" fmla="val -2025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603960" y="4005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宅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2700360" y="3933720"/>
            <a:ext cx="647640" cy="719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4716360" y="3933720"/>
            <a:ext cx="20876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《無相論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4284720" y="4508640"/>
            <a:ext cx="3456000" cy="649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4886280" y="4508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種子之宅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2916360" y="5229360"/>
            <a:ext cx="1584360" cy="609480"/>
          </a:xfrm>
          <a:prstGeom prst="borderCallout1">
            <a:avLst>
              <a:gd name="adj1" fmla="val 18750"/>
              <a:gd name="adj2" fmla="val -8333"/>
              <a:gd name="adj3" fmla="val -4949"/>
              <a:gd name="adj4" fmla="val -3657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36039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藏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2771640" y="5157720"/>
            <a:ext cx="720720" cy="7207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4211640" y="5805360"/>
            <a:ext cx="3384720" cy="64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執藏識即阿賴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DFD5-454F-400B-A88B-7A7B36C7D286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D42BC-1248-461E-9393-365F08982E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總經論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第八識眾異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6" name=""/>
          <p:cNvSpPr/>
          <p:nvPr/>
        </p:nvSpPr>
        <p:spPr>
          <a:xfrm>
            <a:off x="324000" y="1700280"/>
            <a:ext cx="1295280" cy="482436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615600" y="146952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第八識眾異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476360" y="2708280"/>
            <a:ext cx="115092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622520" y="2199240"/>
            <a:ext cx="8506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總有十八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2843280" y="1773360"/>
            <a:ext cx="2160360" cy="609480"/>
          </a:xfrm>
          <a:prstGeom prst="borderCallout1">
            <a:avLst>
              <a:gd name="adj1" fmla="val 18750"/>
              <a:gd name="adj2" fmla="val -8333"/>
              <a:gd name="adj3" fmla="val 184115"/>
              <a:gd name="adj4" fmla="val -2351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3819960" y="1700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種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2700360" y="1773360"/>
            <a:ext cx="720720" cy="647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3924360" y="2349360"/>
            <a:ext cx="2160360" cy="57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4271760" y="2276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種子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2703600" y="3170160"/>
            <a:ext cx="2300040" cy="609840"/>
          </a:xfrm>
          <a:prstGeom prst="borderCallout1">
            <a:avLst>
              <a:gd name="adj1" fmla="val 18750"/>
              <a:gd name="adj2" fmla="val -8333"/>
              <a:gd name="adj3" fmla="val 89583"/>
              <a:gd name="adj4" fmla="val -1580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3695400" y="3141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垢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2700360" y="3141720"/>
            <a:ext cx="719280" cy="647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5003640" y="3141720"/>
            <a:ext cx="2016360" cy="57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5371200" y="306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佛第八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776680" y="4035600"/>
            <a:ext cx="2155680" cy="609480"/>
          </a:xfrm>
          <a:prstGeom prst="borderCallout1">
            <a:avLst>
              <a:gd name="adj1" fmla="val 18750"/>
              <a:gd name="adj2" fmla="val -8333"/>
              <a:gd name="adj3" fmla="val 77606"/>
              <a:gd name="adj4" fmla="val -2025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3695400" y="4005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執持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2700360" y="3933720"/>
            <a:ext cx="647640" cy="719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4932360" y="4005360"/>
            <a:ext cx="2374920" cy="649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5371200" y="407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阿陀那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2916360" y="5229360"/>
            <a:ext cx="1726920" cy="609480"/>
          </a:xfrm>
          <a:prstGeom prst="borderCallout1">
            <a:avLst>
              <a:gd name="adj1" fmla="val 18750"/>
              <a:gd name="adj2" fmla="val -8333"/>
              <a:gd name="adj3" fmla="val -4949"/>
              <a:gd name="adj4" fmla="val -3354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367704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緣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771640" y="5157720"/>
            <a:ext cx="720720" cy="7207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4211640" y="5805360"/>
            <a:ext cx="3384720" cy="64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能緣事識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572000" y="5157720"/>
            <a:ext cx="252108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《辯中邊論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E95-043A-4AC6-81F3-3379F28AC20B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EDBBA-1B2C-4812-A4E8-AF7F81B252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總經論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第八識異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"/>
          <p:cNvSpPr/>
          <p:nvPr/>
        </p:nvSpPr>
        <p:spPr>
          <a:xfrm>
            <a:off x="324000" y="1700280"/>
            <a:ext cx="1295280" cy="482436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615600" y="146952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第八識眾異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1476360" y="2708280"/>
            <a:ext cx="115092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1622520" y="2199240"/>
            <a:ext cx="8506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總有十八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2843280" y="1773360"/>
            <a:ext cx="2449440" cy="609480"/>
          </a:xfrm>
          <a:prstGeom prst="borderCallout1">
            <a:avLst>
              <a:gd name="adj1" fmla="val 18750"/>
              <a:gd name="adj2" fmla="val -8333"/>
              <a:gd name="adj3" fmla="val 184115"/>
              <a:gd name="adj4" fmla="val -2074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603960" y="1700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顯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2700360" y="1700280"/>
            <a:ext cx="720720" cy="647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059280" y="2349360"/>
            <a:ext cx="5795640" cy="57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5148360" y="1628640"/>
            <a:ext cx="208908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《無相論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4067280" y="2276640"/>
            <a:ext cx="38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為顯五根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四大等皆於此顯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2703600" y="3170160"/>
            <a:ext cx="2300040" cy="609840"/>
          </a:xfrm>
          <a:prstGeom prst="borderCallout1">
            <a:avLst>
              <a:gd name="adj1" fmla="val 18750"/>
              <a:gd name="adj2" fmla="val -8333"/>
              <a:gd name="adj3" fmla="val 89583"/>
              <a:gd name="adj4" fmla="val -1580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3819960" y="3141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現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700360" y="3141720"/>
            <a:ext cx="719280" cy="647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4572000" y="3716280"/>
            <a:ext cx="4176720" cy="57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5396760" y="3645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諸法皆於本識上現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2700360" y="4653000"/>
            <a:ext cx="2155680" cy="609480"/>
          </a:xfrm>
          <a:prstGeom prst="borderCallout1">
            <a:avLst>
              <a:gd name="adj1" fmla="val 18750"/>
              <a:gd name="adj2" fmla="val -8333"/>
              <a:gd name="adj3" fmla="val 77606"/>
              <a:gd name="adj4" fmla="val -2025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3532680" y="458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轉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2700360" y="4581360"/>
            <a:ext cx="647640" cy="719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4716360" y="4365720"/>
            <a:ext cx="20876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《無相論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4427640" y="5013360"/>
            <a:ext cx="4176720" cy="649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5305320" y="501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與諸法為依而起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2700360" y="5734080"/>
            <a:ext cx="1727280" cy="609480"/>
          </a:xfrm>
          <a:prstGeom prst="borderCallout1">
            <a:avLst>
              <a:gd name="adj1" fmla="val 18750"/>
              <a:gd name="adj2" fmla="val -8333"/>
              <a:gd name="adj3" fmla="val -4949"/>
              <a:gd name="adj4" fmla="val -3354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3512520" y="5734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2700360" y="5589720"/>
            <a:ext cx="720720" cy="7207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4427640" y="5805360"/>
            <a:ext cx="3384360" cy="64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集起義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5003640" y="3068640"/>
            <a:ext cx="252108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《楞伽經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9FF8-03A6-4114-B720-12EAD19913BD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E43F1-53EE-4F66-B9B4-0C5A20CD7F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觸心所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廣釋變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3141720"/>
            <a:ext cx="936720" cy="280836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680" y="3240720"/>
            <a:ext cx="91152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觸心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3141720"/>
            <a:ext cx="769680" cy="1368360"/>
          </a:xfrm>
          <a:prstGeom prst="borderCallout1">
            <a:avLst>
              <a:gd name="adj1" fmla="val 18750"/>
              <a:gd name="adj2" fmla="val -8333"/>
              <a:gd name="adj3" fmla="val 91995"/>
              <a:gd name="adj4" fmla="val -7340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22520" y="300888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分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43280" y="4941720"/>
            <a:ext cx="2592360" cy="1511640"/>
          </a:xfrm>
          <a:prstGeom prst="borderCallout1">
            <a:avLst>
              <a:gd name="adj1" fmla="val 18750"/>
              <a:gd name="adj2" fmla="val -8333"/>
              <a:gd name="adj3" fmla="val 61976"/>
              <a:gd name="adj4" fmla="val -221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55200" y="494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三和合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92360" y="4651200"/>
            <a:ext cx="914400" cy="1627200"/>
          </a:xfrm>
          <a:prstGeom prst="borderCallout1">
            <a:avLst>
              <a:gd name="adj1" fmla="val 18750"/>
              <a:gd name="adj2" fmla="val -8333"/>
              <a:gd name="adj3" fmla="val 7023"/>
              <a:gd name="adj4" fmla="val -6354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76360" y="1773360"/>
            <a:ext cx="914400" cy="1224000"/>
          </a:xfrm>
          <a:prstGeom prst="borderCallout1">
            <a:avLst>
              <a:gd name="adj1" fmla="val 18750"/>
              <a:gd name="adj2" fmla="val -8333"/>
              <a:gd name="adj3" fmla="val 135277"/>
              <a:gd name="adj4" fmla="val -7135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51240" y="164052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三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67240" y="466488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變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43280" y="2565360"/>
            <a:ext cx="2449440" cy="1079640"/>
          </a:xfrm>
          <a:prstGeom prst="borderCallout1">
            <a:avLst>
              <a:gd name="adj1" fmla="val 18750"/>
              <a:gd name="adj2" fmla="val -8333"/>
              <a:gd name="adj3" fmla="val 100000"/>
              <a:gd name="adj4" fmla="val -1762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10480" y="256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觸似彼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3640" y="1773360"/>
            <a:ext cx="2089080" cy="609480"/>
          </a:xfrm>
          <a:prstGeom prst="borderCallout1">
            <a:avLst>
              <a:gd name="adj1" fmla="val 18750"/>
              <a:gd name="adj2" fmla="val -8333"/>
              <a:gd name="adj3" fmla="val 18750"/>
              <a:gd name="adj4" fmla="val -4490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00360" y="1700280"/>
            <a:ext cx="29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三體現行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35640" y="1052640"/>
            <a:ext cx="3024000" cy="609480"/>
          </a:xfrm>
          <a:prstGeom prst="borderCallout1">
            <a:avLst>
              <a:gd name="adj1" fmla="val 18750"/>
              <a:gd name="adj2" fmla="val -8333"/>
              <a:gd name="adj3" fmla="val 136717"/>
              <a:gd name="adj4" fmla="val -487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64040" y="1052640"/>
            <a:ext cx="21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排除種子位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未合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03640" y="3573360"/>
            <a:ext cx="2016000" cy="1079640"/>
          </a:xfrm>
          <a:prstGeom prst="borderCallout1">
            <a:avLst>
              <a:gd name="adj1" fmla="val 18750"/>
              <a:gd name="adj2" fmla="val -8333"/>
              <a:gd name="adj3" fmla="val -36175"/>
              <a:gd name="adj4" fmla="val -1448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70840" y="357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分別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67560" y="537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皆有順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15560" y="580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心所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83560" y="2997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故名分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70840" y="400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是觸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5640" y="1844640"/>
            <a:ext cx="3457440" cy="216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51640" y="3500280"/>
            <a:ext cx="3313080" cy="19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72360" y="1844640"/>
            <a:ext cx="15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和合一切心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心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47560" y="227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令同觸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83920" y="278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是觸自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42680" y="344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既似順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79200" y="386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心所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23560" y="429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故以受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26840" y="472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所依為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0360" y="5373720"/>
            <a:ext cx="3024360" cy="863640"/>
          </a:xfrm>
          <a:prstGeom prst="borderCallout1">
            <a:avLst>
              <a:gd name="adj1" fmla="val 18750"/>
              <a:gd name="adj2" fmla="val -8333"/>
              <a:gd name="adj3" fmla="val -50000"/>
              <a:gd name="adj4" fmla="val -477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99760" y="5346720"/>
            <a:ext cx="5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《起盡經》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548040" y="5661000"/>
            <a:ext cx="15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受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想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行蘊一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6165720"/>
            <a:ext cx="2592360" cy="505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皆以觸為緣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3AB-C79F-4B95-B7C9-80CCB54B563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DA944-198B-4744-8E42-C3FA9F50B3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總經論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第八識異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0" name=""/>
          <p:cNvSpPr/>
          <p:nvPr/>
        </p:nvSpPr>
        <p:spPr>
          <a:xfrm>
            <a:off x="324000" y="1700280"/>
            <a:ext cx="1295280" cy="482436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615600" y="146952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第八識眾異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1476360" y="2708280"/>
            <a:ext cx="115092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1622520" y="2199240"/>
            <a:ext cx="8506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總有十八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2843280" y="1773360"/>
            <a:ext cx="2449440" cy="609480"/>
          </a:xfrm>
          <a:prstGeom prst="borderCallout1">
            <a:avLst>
              <a:gd name="adj1" fmla="val 18750"/>
              <a:gd name="adj2" fmla="val -8333"/>
              <a:gd name="adj3" fmla="val 184115"/>
              <a:gd name="adj4" fmla="val -2074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372852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843280" y="1773360"/>
            <a:ext cx="720720" cy="647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4427640" y="2349360"/>
            <a:ext cx="2665440" cy="57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5148360" y="1628640"/>
            <a:ext cx="237636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《攝大乘論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919400" y="2276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所知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2703600" y="3170160"/>
            <a:ext cx="2300040" cy="609840"/>
          </a:xfrm>
          <a:prstGeom prst="borderCallout1">
            <a:avLst>
              <a:gd name="adj1" fmla="val 18750"/>
              <a:gd name="adj2" fmla="val -8333"/>
              <a:gd name="adj3" fmla="val 89583"/>
              <a:gd name="adj4" fmla="val -1580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3819960" y="3141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異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2700360" y="3141720"/>
            <a:ext cx="719280" cy="647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4859280" y="3141720"/>
            <a:ext cx="2160720" cy="57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5135400" y="306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異熟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2776680" y="4035600"/>
            <a:ext cx="2155680" cy="609480"/>
          </a:xfrm>
          <a:prstGeom prst="borderCallout1">
            <a:avLst>
              <a:gd name="adj1" fmla="val 18750"/>
              <a:gd name="adj2" fmla="val -8333"/>
              <a:gd name="adj3" fmla="val 77606"/>
              <a:gd name="adj4" fmla="val -2025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3656880" y="4005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2700360" y="3933720"/>
            <a:ext cx="647640" cy="719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4716360" y="3933720"/>
            <a:ext cx="20876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《無相論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4284720" y="4508640"/>
            <a:ext cx="3456000" cy="649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4794840" y="450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分別事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2916360" y="5229360"/>
            <a:ext cx="1584360" cy="609480"/>
          </a:xfrm>
          <a:prstGeom prst="borderCallout1">
            <a:avLst>
              <a:gd name="adj1" fmla="val 18750"/>
              <a:gd name="adj2" fmla="val -8333"/>
              <a:gd name="adj3" fmla="val -4949"/>
              <a:gd name="adj4" fmla="val -3657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36039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根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2771640" y="5157720"/>
            <a:ext cx="720720" cy="7207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211640" y="5805360"/>
            <a:ext cx="3384720" cy="64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大眾部立根本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5D6-309B-4CB7-8A45-C4007A6ABE43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D097A-F867-44DE-A751-E0E6D419A4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總經論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第八識異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"/>
          <p:cNvSpPr/>
          <p:nvPr/>
        </p:nvSpPr>
        <p:spPr>
          <a:xfrm>
            <a:off x="324000" y="1700280"/>
            <a:ext cx="1295280" cy="482436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615600" y="146952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第八識眾異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1476360" y="2708280"/>
            <a:ext cx="115092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1622520" y="2199240"/>
            <a:ext cx="8506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總有十八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2843280" y="1773360"/>
            <a:ext cx="1944720" cy="609480"/>
          </a:xfrm>
          <a:prstGeom prst="borderCallout1">
            <a:avLst>
              <a:gd name="adj1" fmla="val 18750"/>
              <a:gd name="adj2" fmla="val -8333"/>
              <a:gd name="adj3" fmla="val 184115"/>
              <a:gd name="adj4" fmla="val -2612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372852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2843280" y="1773360"/>
            <a:ext cx="720720" cy="647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3924360" y="2349360"/>
            <a:ext cx="4535280" cy="57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820400" y="2276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化地部立名窮生死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2700360" y="3141720"/>
            <a:ext cx="1871640" cy="609480"/>
          </a:xfrm>
          <a:prstGeom prst="borderCallout1">
            <a:avLst>
              <a:gd name="adj1" fmla="val 18750"/>
              <a:gd name="adj2" fmla="val -8333"/>
              <a:gd name="adj3" fmla="val 89583"/>
              <a:gd name="adj4" fmla="val -1942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3512520" y="3141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2700360" y="3141720"/>
            <a:ext cx="719280" cy="647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4067280" y="3141720"/>
            <a:ext cx="4897440" cy="57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4749480" y="3068640"/>
            <a:ext cx="33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上座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分別說部立有分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2771640" y="4005360"/>
            <a:ext cx="4537080" cy="609480"/>
          </a:xfrm>
          <a:prstGeom prst="borderCallout1">
            <a:avLst>
              <a:gd name="adj1" fmla="val 18750"/>
              <a:gd name="adj2" fmla="val -8333"/>
              <a:gd name="adj3" fmla="val 77606"/>
              <a:gd name="adj4" fmla="val -962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3717360" y="3933720"/>
            <a:ext cx="326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愛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樂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欣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喜四賴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2700360" y="3933720"/>
            <a:ext cx="792000" cy="7905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5148360" y="4581360"/>
            <a:ext cx="2879640" cy="64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《增一阿含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4643280" y="5229360"/>
            <a:ext cx="4248360" cy="649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5665680" y="522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唯目識故此不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3276720" y="5877000"/>
            <a:ext cx="338436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2736360" y="4019760"/>
            <a:ext cx="7290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7812000" y="4653000"/>
            <a:ext cx="1081080" cy="7207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3276720" y="4581360"/>
            <a:ext cx="93492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4218840" y="587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亦復不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4C3-5739-4C58-8C7E-C21CD68BC57C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6A90A-1A72-4388-986C-3145F885FF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500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Verdana"/>
              </a:rPr>
              <a:t>總釋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第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識因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果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4" name=""/>
          <p:cNvSpPr/>
          <p:nvPr/>
        </p:nvSpPr>
        <p:spPr>
          <a:xfrm>
            <a:off x="395280" y="2349360"/>
            <a:ext cx="1152360" cy="3600720"/>
          </a:xfrm>
          <a:prstGeom prst="verticalScroll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第八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1908000" y="1773360"/>
            <a:ext cx="9144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788" y="16297"/>
                </a:moveTo>
                <a:lnTo>
                  <a:pt x="-1800" y="1558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1619280" y="3573360"/>
            <a:ext cx="720720" cy="180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754" y="9162"/>
                </a:moveTo>
                <a:lnTo>
                  <a:pt x="-2284" y="1371"/>
                </a:lnTo>
              </a:path>
              <a:path w="21600" h="21600">
                <a:moveTo>
                  <a:pt x="-2284" y="0"/>
                </a:moveTo>
                <a:lnTo>
                  <a:pt x="-2284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1983600" y="142344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有漏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1551240" y="3267720"/>
            <a:ext cx="8506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無漏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2700360" y="2276640"/>
            <a:ext cx="576360" cy="1512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2195640" y="4653000"/>
            <a:ext cx="718920" cy="129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2128680" y="448596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善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631600" y="209916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記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4500720" y="907920"/>
            <a:ext cx="4248000" cy="609840"/>
          </a:xfrm>
          <a:prstGeom prst="borderCallout1">
            <a:avLst>
              <a:gd name="adj1" fmla="val 18750"/>
              <a:gd name="adj2" fmla="val -8333"/>
              <a:gd name="adj3" fmla="val 202865"/>
              <a:gd name="adj4" fmla="val -4275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4500720" y="907920"/>
            <a:ext cx="42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唯與五遍行心所相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5508720" y="189000"/>
            <a:ext cx="331128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唯緣執受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處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492360" y="437976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3564000" y="3933720"/>
            <a:ext cx="5184720" cy="503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遍行與一切心恒相應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3564000" y="3500280"/>
            <a:ext cx="5400720" cy="503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別境：常樂證知所觀境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4067280" y="2997360"/>
            <a:ext cx="4824360" cy="50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於所觀境恆印持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4067280" y="2492280"/>
            <a:ext cx="4824360" cy="505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於曾受境恆明記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4140360" y="1989000"/>
            <a:ext cx="4319280" cy="505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世尊無有不定心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4284720" y="1557360"/>
            <a:ext cx="4535280" cy="433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於一切法常抉擇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3564000" y="4437000"/>
            <a:ext cx="45734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善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極淨信等常相應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3276720" y="2060640"/>
            <a:ext cx="503280" cy="122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3207960" y="210924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捨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2771640" y="4797360"/>
            <a:ext cx="505080" cy="129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2704680" y="470160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捨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458640" y="6021360"/>
            <a:ext cx="3176640" cy="609480"/>
          </a:xfrm>
          <a:prstGeom prst="borderCallout1">
            <a:avLst>
              <a:gd name="adj1" fmla="val 18750"/>
              <a:gd name="adj2" fmla="val -8333"/>
              <a:gd name="adj3" fmla="val -28648"/>
              <a:gd name="adj4" fmla="val 772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324000" y="6021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任運恆時平等轉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3708360" y="5013360"/>
            <a:ext cx="3457440" cy="56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71" y="-24436"/>
                </a:moveTo>
                <a:lnTo>
                  <a:pt x="-476" y="4344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4157640" y="4941720"/>
            <a:ext cx="22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與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心所相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8028000" y="4653000"/>
            <a:ext cx="936720" cy="1584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7960320" y="450072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無染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7833240" y="4581360"/>
            <a:ext cx="115524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無散動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851280" y="5516640"/>
            <a:ext cx="388764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以一切法為所緣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3924360" y="6021360"/>
            <a:ext cx="3960720" cy="549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境智遍緣一切法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CC2-BDBF-4FF5-BCA2-C817B443261C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65C0A-939B-4059-821F-21D8F3A83C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結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因果二位同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9" name=""/>
          <p:cNvSpPr/>
          <p:nvPr/>
        </p:nvSpPr>
        <p:spPr>
          <a:xfrm>
            <a:off x="1258920" y="1773360"/>
            <a:ext cx="576360" cy="1293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1258920" y="3284640"/>
            <a:ext cx="720720" cy="136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187280" y="4869000"/>
            <a:ext cx="720720" cy="129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900000" y="2421000"/>
            <a:ext cx="432000" cy="3456000"/>
          </a:xfrm>
          <a:custGeom>
            <a:avLst/>
            <a:gdLst>
              <a:gd name="textAreaLeft" fmla="*/ 127080 w 432000"/>
              <a:gd name="textAreaRight" fmla="*/ 432360 w 432000"/>
              <a:gd name="textAreaTop" fmla="*/ 144000 h 3456000"/>
              <a:gd name="textAreaBottom" fmla="*/ 331200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250920" y="2637000"/>
            <a:ext cx="718920" cy="2881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83240" y="302796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三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900000" y="4076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1262520" y="154980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三性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1262520" y="306108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相應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1262520" y="464544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緣境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2268360" y="1700280"/>
            <a:ext cx="1224000" cy="64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無記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268360" y="2492280"/>
            <a:ext cx="863640" cy="6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善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2195640" y="3284640"/>
            <a:ext cx="1439640" cy="64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相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2124000" y="4149720"/>
            <a:ext cx="1224000" cy="6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相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2050920" y="5084640"/>
            <a:ext cx="1729080" cy="6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緣執受處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2050920" y="5950080"/>
            <a:ext cx="1657440" cy="64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緣一切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1835280" y="1844640"/>
            <a:ext cx="504720" cy="1152720"/>
          </a:xfrm>
          <a:custGeom>
            <a:avLst/>
            <a:gdLst>
              <a:gd name="textAreaLeft" fmla="*/ 148320 w 504720"/>
              <a:gd name="textAreaRight" fmla="*/ 505080 w 504720"/>
              <a:gd name="textAreaTop" fmla="*/ 47880 h 1152720"/>
              <a:gd name="textAreaBottom" fmla="*/ 1104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1979640" y="3573360"/>
            <a:ext cx="288720" cy="1150920"/>
          </a:xfrm>
          <a:custGeom>
            <a:avLst/>
            <a:gdLst>
              <a:gd name="textAreaLeft" fmla="*/ 84960 w 288720"/>
              <a:gd name="textAreaRight" fmla="*/ 289080 w 288720"/>
              <a:gd name="textAreaTop" fmla="*/ 47880 h 1150920"/>
              <a:gd name="textAreaBottom" fmla="*/ 1103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1908000" y="5157720"/>
            <a:ext cx="216000" cy="1366920"/>
          </a:xfrm>
          <a:custGeom>
            <a:avLst/>
            <a:gdLst>
              <a:gd name="textAreaLeft" fmla="*/ 63360 w 216000"/>
              <a:gd name="textAreaRight" fmla="*/ 216360 w 216000"/>
              <a:gd name="textAreaTop" fmla="*/ 56880 h 1366920"/>
              <a:gd name="textAreaBottom" fmla="*/ 131004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3851280" y="1989000"/>
            <a:ext cx="649440" cy="1871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3995640" y="4437000"/>
            <a:ext cx="649440" cy="1871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3855600" y="195480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有漏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4000320" y="440280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漏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2987640" y="198900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V="1">
            <a:off x="3564000" y="306828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 flipV="1">
            <a:off x="3492360" y="3428640"/>
            <a:ext cx="86364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3059280" y="2637000"/>
            <a:ext cx="1225440" cy="19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3276720" y="4365720"/>
            <a:ext cx="934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 flipV="1">
            <a:off x="3564000" y="544500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4932360" y="1844640"/>
            <a:ext cx="576360" cy="1079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5148360" y="3284640"/>
            <a:ext cx="57600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4932360" y="4797360"/>
            <a:ext cx="576360" cy="1440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5796000" y="2060640"/>
            <a:ext cx="223200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垢無漏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796000" y="1341360"/>
            <a:ext cx="144000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940360" y="3141720"/>
            <a:ext cx="1584360" cy="64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異熟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796000" y="4797360"/>
            <a:ext cx="158436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學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796000" y="5805360"/>
            <a:ext cx="1512720" cy="64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捨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6012000" y="3860640"/>
            <a:ext cx="1512720" cy="64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無垢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8101080" y="4292640"/>
            <a:ext cx="718920" cy="12222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4863600" y="167760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因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5081400" y="311724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果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4863600" y="454716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斷伏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4788000" y="2421000"/>
            <a:ext cx="144360" cy="3529080"/>
          </a:xfrm>
          <a:custGeom>
            <a:avLst/>
            <a:gdLst>
              <a:gd name="textAreaLeft" fmla="*/ 42480 w 144360"/>
              <a:gd name="textAreaRight" fmla="*/ 144360 w 144360"/>
              <a:gd name="textAreaTop" fmla="*/ 146880 h 3529080"/>
              <a:gd name="textAreaBottom" fmla="*/ 338220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4356000" y="3357720"/>
            <a:ext cx="576360" cy="13665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4859280" y="3933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6084720" y="1413000"/>
            <a:ext cx="7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6000480" y="1268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雜染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5508720" y="1557360"/>
            <a:ext cx="287280" cy="1079640"/>
          </a:xfrm>
          <a:custGeom>
            <a:avLst/>
            <a:gdLst>
              <a:gd name="textAreaLeft" fmla="*/ 84240 w 287280"/>
              <a:gd name="textAreaRight" fmla="*/ 287640 w 287280"/>
              <a:gd name="textAreaTop" fmla="*/ 45000 h 1079640"/>
              <a:gd name="textAreaBottom" fmla="*/ 1035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724360" y="3284640"/>
            <a:ext cx="360360" cy="1008000"/>
          </a:xfrm>
          <a:custGeom>
            <a:avLst/>
            <a:gdLst>
              <a:gd name="textAreaLeft" fmla="*/ 105840 w 360360"/>
              <a:gd name="textAreaRight" fmla="*/ 360720 w 36036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508720" y="5084640"/>
            <a:ext cx="287280" cy="936720"/>
          </a:xfrm>
          <a:custGeom>
            <a:avLst/>
            <a:gdLst>
              <a:gd name="textAreaLeft" fmla="*/ 84240 w 287280"/>
              <a:gd name="textAreaRight" fmla="*/ 287640 w 287280"/>
              <a:gd name="textAreaTop" fmla="*/ 38880 h 936720"/>
              <a:gd name="textAreaBottom" fmla="*/ 8978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8244000" y="1557360"/>
            <a:ext cx="647640" cy="1440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8176320" y="158832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因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8031960" y="410760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果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7020000" y="1557360"/>
            <a:ext cx="1297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V="1">
            <a:off x="7451640" y="285228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V="1">
            <a:off x="7308720" y="2924280"/>
            <a:ext cx="1224000" cy="20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7451640" y="2492280"/>
            <a:ext cx="1008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380360" y="400536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 flipV="1">
            <a:off x="7164360" y="5300640"/>
            <a:ext cx="1079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627280" y="260280"/>
            <a:ext cx="619272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同：因相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不可知了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受俱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恆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F3D-141A-41AE-BA66-7D5CF04837EA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BD788-B525-465D-BD1C-7A21097D67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觸心所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廣釋變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2781360"/>
            <a:ext cx="1297080" cy="324000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8000" y="3194640"/>
            <a:ext cx="91152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觸心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8000" y="2060640"/>
            <a:ext cx="914400" cy="1512720"/>
          </a:xfrm>
          <a:prstGeom prst="borderCallout1">
            <a:avLst>
              <a:gd name="adj1" fmla="val 18750"/>
              <a:gd name="adj2" fmla="val -8333"/>
              <a:gd name="adj3" fmla="val 59810"/>
              <a:gd name="adj4" fmla="val -4774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82880" y="200088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變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11640" y="1989000"/>
            <a:ext cx="3887640" cy="609840"/>
          </a:xfrm>
          <a:prstGeom prst="borderCallout1">
            <a:avLst>
              <a:gd name="adj1" fmla="val 18750"/>
              <a:gd name="adj2" fmla="val -8333"/>
              <a:gd name="adj3" fmla="val 37240"/>
              <a:gd name="adj4" fmla="val -1294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73320" y="1916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為受依者以觸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80000" y="1484280"/>
            <a:ext cx="2521080" cy="504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近而勝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16360" y="1773360"/>
            <a:ext cx="914400" cy="718920"/>
          </a:xfrm>
          <a:prstGeom prst="borderCallout1">
            <a:avLst>
              <a:gd name="adj1" fmla="val 18750"/>
              <a:gd name="adj2" fmla="val -8333"/>
              <a:gd name="adj3" fmla="val 86092"/>
              <a:gd name="adj4" fmla="val -2395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62240" y="1700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59280" y="2997360"/>
            <a:ext cx="936360" cy="107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32000" y="4508640"/>
            <a:ext cx="1008360" cy="93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48000" y="2421000"/>
            <a:ext cx="432000" cy="72072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92360" y="4005360"/>
            <a:ext cx="432000" cy="72072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132000" y="5805360"/>
            <a:ext cx="309564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順生一切心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80000" y="5373720"/>
            <a:ext cx="431640" cy="720720"/>
          </a:xfrm>
          <a:prstGeom prst="downArrow">
            <a:avLst>
              <a:gd name="adj1" fmla="val 50000"/>
              <a:gd name="adj2" fmla="val 4174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3280" y="2781360"/>
            <a:ext cx="3961080" cy="1627200"/>
          </a:xfrm>
          <a:prstGeom prst="borderCallout1">
            <a:avLst>
              <a:gd name="adj1" fmla="val 18750"/>
              <a:gd name="adj2" fmla="val -8333"/>
              <a:gd name="adj3" fmla="val -15023"/>
              <a:gd name="adj4" fmla="val -37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58240" y="2781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觸所取可意等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20960" y="3284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與受所取順益等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58600" y="3716280"/>
            <a:ext cx="27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極相隣近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引發勝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84720" y="4365720"/>
            <a:ext cx="2519640" cy="720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行相相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931-688D-46D2-9DA3-504E34181A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3B105-6BB0-4303-B63E-2963BE745E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Verdana"/>
              </a:rPr>
              <a:t>証觸心所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實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2997360"/>
            <a:ext cx="1224000" cy="27367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9960" y="3096360"/>
            <a:ext cx="91152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觸心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68360" y="2781360"/>
            <a:ext cx="4967640" cy="609480"/>
          </a:xfrm>
          <a:prstGeom prst="borderCallout1">
            <a:avLst>
              <a:gd name="adj1" fmla="val 18750"/>
              <a:gd name="adj2" fmla="val -8333"/>
              <a:gd name="adj3" fmla="val 160416"/>
              <a:gd name="adj4" fmla="val -1600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440" y="2708280"/>
            <a:ext cx="305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六六法中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心所性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71600" y="4754520"/>
            <a:ext cx="2013120" cy="609480"/>
          </a:xfrm>
          <a:prstGeom prst="borderCallout1">
            <a:avLst>
              <a:gd name="adj1" fmla="val 18750"/>
              <a:gd name="adj2" fmla="val -8333"/>
              <a:gd name="adj3" fmla="val 18750"/>
              <a:gd name="adj4" fmla="val -3950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03520" y="4724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是食攝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9280" y="4292640"/>
            <a:ext cx="647640" cy="1511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621000" y="4437000"/>
            <a:ext cx="15210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實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1484280"/>
            <a:ext cx="2521080" cy="1657440"/>
          </a:xfrm>
          <a:prstGeom prst="wedgeEllipseCallout">
            <a:avLst>
              <a:gd name="adj1" fmla="val -44078"/>
              <a:gd name="adj2" fmla="val 6915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47240" y="137844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和合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52320" y="1379880"/>
            <a:ext cx="729000" cy="16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觸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83240" y="169524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和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43600" y="147672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為假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80000" y="2060640"/>
            <a:ext cx="4752720" cy="79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276720" y="2349360"/>
            <a:ext cx="5745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22960" y="2133720"/>
            <a:ext cx="34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六觸身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六受身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六想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580000" y="1484280"/>
            <a:ext cx="266400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觸別有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776680" y="3962520"/>
            <a:ext cx="1795320" cy="618840"/>
          </a:xfrm>
          <a:prstGeom prst="borderCallout1">
            <a:avLst>
              <a:gd name="adj1" fmla="val 18750"/>
              <a:gd name="adj2" fmla="val -8333"/>
              <a:gd name="adj3" fmla="val 146412"/>
              <a:gd name="adj4" fmla="val -424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00680" y="3933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觸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859280" y="4221000"/>
            <a:ext cx="2305080" cy="692280"/>
          </a:xfrm>
          <a:prstGeom prst="borderCallout1">
            <a:avLst>
              <a:gd name="adj1" fmla="val 18750"/>
              <a:gd name="adj2" fmla="val -8333"/>
              <a:gd name="adj3" fmla="val 16745"/>
              <a:gd name="adj4" fmla="val -3140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0240" y="4221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Verdana"/>
              </a:rPr>
              <a:t>八識皆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16360" y="4869000"/>
            <a:ext cx="331164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以六識食義偏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71640" y="5516640"/>
            <a:ext cx="5329440" cy="609480"/>
          </a:xfrm>
          <a:prstGeom prst="borderCallout1">
            <a:avLst>
              <a:gd name="adj1" fmla="val 18750"/>
              <a:gd name="adj2" fmla="val -8333"/>
              <a:gd name="adj3" fmla="val -71092"/>
              <a:gd name="adj4" fmla="val -539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688560" y="5445000"/>
            <a:ext cx="35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攝受喜樂順益捨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</a:rPr>
              <a:t>資養勝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340000" y="6021360"/>
            <a:ext cx="5759280" cy="620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取境攝受喜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樂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</a:rPr>
              <a:t>順益捨能為食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D36-F0BC-4E91-9A9C-C9B7E42B40A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7A114-D6CB-4A7F-9C78-1524050D9B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5:54:30Z</dcterms:created>
  <dc:creator>Win7User</dc:creator>
  <dc:description/>
  <dc:language>en-US</dc:language>
  <cp:lastModifiedBy>Win7User</cp:lastModifiedBy>
  <dcterms:modified xsi:type="dcterms:W3CDTF">2012-11-23T07:26:58Z</dcterms:modified>
  <cp:revision>142</cp:revision>
  <dc:subject/>
  <dc:title>阿賴耶識心所相應門</dc:title>
</cp:coreProperties>
</file>